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6AE8-64E7-41CA-9A50-7E9A35AF8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1601-E9B5-4ECD-AB8A-A2DD647FBA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430F-0FB1-458B-9BB9-E775AF1256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AE65-B097-4488-8D94-12BB5D68B7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FF03-BD9F-4483-B0CD-29663AF0BC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BB59-597B-4BC3-A893-4E3BB32684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4837-F068-4D5A-BD6E-C4B71474C2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074F-492E-410D-8193-B8ABC95F5C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49CF-FD0C-4340-8366-97C038BE01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218B-025C-48E2-B7B3-955FB1CCB8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AAD1-92E0-42F5-B625-630F91CB90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DF69-46B7-4F1B-AB3D-7D1201F009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9190-A971-42D6-9F98-BF85490A68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8BEF-286F-4568-BEE1-2520A6A3DA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CBB3-E000-481F-A9C7-E66289C064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19F0-9DE9-45DC-8134-229F469CD2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9B86-6D6C-4D48-9B7B-318C4E0305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A3EA-071C-4D73-8DFB-EE0F16867E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662C-4514-4525-BB78-B7DE016D29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A73F-C24F-4C37-847B-844713329D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485B-3E45-49B7-8A21-AEA9D2F53C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FF8F-C7FA-4273-B02C-70EDA41213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40D3-024F-4C13-BD0E-4DC93546AF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A4BD-320A-4F3C-A577-888DD485E4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8234-0BB4-40D9-AE5E-BED18BED2C5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F5A6-F122-4944-BF75-2BB50F047B9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5D7C-818D-4C04-AC24-3B9FECFC1C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EF49-34D2-4F52-A11A-DE1B9C86C02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C494-E5C3-4693-8326-7487C5B8E8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90D3-A7AE-4982-9F2E-8668F4846C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3BF7-2626-462F-B3F7-86DF280788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0678-13B7-496F-BCB5-C00B3715A5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2CE9-C9D0-48C7-AA7D-8E40C2932C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0A6A-0627-4C63-9775-7738E6C5B0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361C-5C20-4CA9-97FE-A58D0C75FC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2F23-7DAC-4592-8199-93FE57C2C0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89D-671A-4C76-A71A-4B3AD2F4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A74-DBDE-4859-A2BB-FD8A0F08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60B6-E71F-4D16-B7ED-69DA253F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CC7-87AE-420D-9747-9081D73D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A123-145D-469B-945B-453AFB0D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48308-4A77-4235-B1E3-2CAE59A82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1D9F-5330-4A90-85D2-19690B2B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9B5D-354B-4E85-890A-4BFD0D9F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D8D2-8C5C-468D-99C9-15AB7777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FEE9-5DD8-43C1-BA53-F92BAEE8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64DF-822A-4B2B-83D7-E1015FC9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360A-52A7-4584-9ED5-8CF8B062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A59F-E891-4682-8CB6-C06F476A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83BB-C8AE-4C40-8C73-EC081171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68619-0A9B-4272-B27F-543FBE4E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D1FB-EF3A-410E-816B-CBCE240BA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A3C3-13DA-4C50-B00E-A8886FF7C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7FC8E-35EF-4796-A9AF-9DEC806C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53AD0-3D24-4E0D-9ADA-85923995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BEFE6-5B32-4832-9D5D-706B7FF4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39EF9-853E-402C-ADDC-1B9DEB13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A960F-3086-4861-B2D0-7AD7AFD2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784F-11C8-4052-BA7A-B9517753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EA90-9D38-4402-B004-75EE0AF0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17DA7-60DD-499E-9518-C6B2FA7A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CCCB9-493C-4E05-B29A-6CB7D9C0A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BA3F4-01E9-4BA4-9611-1F9E92B2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1E0EE-0B75-40BC-8FD7-72B30592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5D5A-595F-4AC3-A0FF-35773753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56EAC-A3BD-4BDE-974C-76A4BA11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50B61-2BCC-412C-93EF-6239FBEB5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AB63-198E-458C-8158-82ADA47E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4B714-9CF3-4C40-9C86-F416246E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C189-E54F-4725-A06A-0106652E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E232F-6916-4B31-BF59-8C65E359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88212-30DA-47A1-BE54-F456E707D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FA902-39F2-46D5-97FF-E45ACEA5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02CED-FBEE-49B2-965C-3F67EED1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D3312-92A9-4C0F-A344-0C548C93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893E2-1246-47D7-AD14-A366FB07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79E85-CA78-47F2-A5D9-FA7006B5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576FE-08A4-40CA-8959-C0977B94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E0C08-2AE4-4DCD-9D99-736AAAE83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3BC0-06BC-4519-8355-CD669810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57D5-E35C-48E1-BC3B-89FA88AB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9C5-1A7A-4BC9-9F7F-F4542E19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7934-7B29-4DA4-8401-0DDAA66D4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550C-8F96-4087-B5C3-1693831A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3C17-608A-4A27-9C33-3CA7D5E83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B53B-0EB7-4F63-9D51-2A6F4BE596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B253-340E-4C96-95B2-A937EDC8F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5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E350-80E2-4B48-8349-CAA7D4DAA2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hemicalgraphics.com/paul/images/DNA/BallAndStick.jpg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Sedative" TargetMode="External"/><Relationship Id="rId2" Type="http://schemas.openxmlformats.org/officeDocument/2006/relationships/hyperlink" Target="https://en.wikipedia.org/wiki/Hypnotic" TargetMode="External"/><Relationship Id="rId3" Type="http://schemas.openxmlformats.org/officeDocument/2006/relationships/hyperlink" Target="https://en.wikipedia.org/wiki/Anxiolytic" TargetMode="External"/><Relationship Id="rId4" Type="http://schemas.openxmlformats.org/officeDocument/2006/relationships/hyperlink" Target="https://en.wikipedia.org/wiki/Psychedelics,_dissociatives_and_deliriants" TargetMode="External"/><Relationship Id="rId5" Type="http://schemas.openxmlformats.org/officeDocument/2006/relationships/hyperlink" Target="https://en.wikipedia.org/wiki/Inhalant" TargetMode="External"/><Relationship Id="rId6" Type="http://schemas.openxmlformats.org/officeDocument/2006/relationships/hyperlink" Target="https://en.wikipedia.org/wiki/Phencyclidin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06768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0" y="266688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Зависност од психоактивних супстанц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Проф.</a:t>
            </a:r>
            <a:r>
              <a:rPr b="0" lang="sr-Latn-CS" sz="2000" spc="-1" strike="noStrike">
                <a:solidFill>
                  <a:srgbClr val="ffffff"/>
                </a:solidFill>
                <a:latin typeface="Arial"/>
              </a:rPr>
              <a:t> д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р  Мирјана Јованови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828720" y="285840"/>
            <a:ext cx="76388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5"/>
          <p:cNvSpPr/>
          <p:nvPr/>
        </p:nvSpPr>
        <p:spPr>
          <a:xfrm>
            <a:off x="838080" y="228600"/>
            <a:ext cx="8305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Биолошка сазнањ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914400" y="1371600"/>
            <a:ext cx="5715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лоупотреба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ависнос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 од дрога и алкохола “трпе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генетске утицај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velty sееking”  темпера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нет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с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ред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р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и одговор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етабол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ри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зик од касније зави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ородични фактори (наследни фактор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у каснијим медицинск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оследицама коришћења др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1400" indent="-29196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Независна психијатријска обоље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8"/>
          <p:cNvGrpSpPr/>
          <p:nvPr/>
        </p:nvGrpSpPr>
        <p:grpSpPr>
          <a:xfrm>
            <a:off x="1295280" y="1827360"/>
            <a:ext cx="6496560" cy="4818600"/>
            <a:chOff x="1295280" y="1827360"/>
            <a:chExt cx="6496560" cy="4818600"/>
          </a:xfrm>
        </p:grpSpPr>
        <p:sp>
          <p:nvSpPr>
            <p:cNvPr id="262" name="Rectangle 9"/>
            <p:cNvSpPr/>
            <p:nvPr/>
          </p:nvSpPr>
          <p:spPr>
            <a:xfrm>
              <a:off x="3337200" y="4595400"/>
              <a:ext cx="2535480" cy="700920"/>
            </a:xfrm>
            <a:prstGeom prst="rect">
              <a:avLst/>
            </a:prstGeom>
            <a:solidFill>
              <a:srgbClr val="330066"/>
            </a:solidFill>
            <a:ln w="9360">
              <a:solidFill>
                <a:srgbClr val="33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Text Box 10"/>
            <p:cNvSpPr/>
            <p:nvPr/>
          </p:nvSpPr>
          <p:spPr>
            <a:xfrm>
              <a:off x="3889800" y="2005200"/>
              <a:ext cx="1398240" cy="45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00"/>
                  </a:solidFill>
                  <a:latin typeface="Tahoma"/>
                </a:rPr>
                <a:t>DRUG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Text Box 11"/>
            <p:cNvSpPr/>
            <p:nvPr/>
          </p:nvSpPr>
          <p:spPr>
            <a:xfrm>
              <a:off x="3285360" y="3399120"/>
              <a:ext cx="2608560" cy="716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73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ahoma"/>
                </a:rPr>
                <a:t>BRAIN 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Tahoma"/>
                </a:rPr>
                <a:t>MECHANISMS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Text Box 12"/>
            <p:cNvSpPr/>
            <p:nvPr/>
          </p:nvSpPr>
          <p:spPr>
            <a:xfrm>
              <a:off x="3473640" y="4708080"/>
              <a:ext cx="2229120" cy="45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80"/>
                  </a:solidFill>
                  <a:latin typeface="Tahoma"/>
                </a:rPr>
                <a:t>ADDICTION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13"/>
            <p:cNvSpPr/>
            <p:nvPr/>
          </p:nvSpPr>
          <p:spPr>
            <a:xfrm>
              <a:off x="3185640" y="5690880"/>
              <a:ext cx="2867400" cy="45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85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ffff"/>
                  </a:solidFill>
                  <a:latin typeface="Tahoma"/>
                </a:rPr>
                <a:t>ENVIRONMEN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Text Box 14"/>
            <p:cNvSpPr/>
            <p:nvPr/>
          </p:nvSpPr>
          <p:spPr>
            <a:xfrm>
              <a:off x="1926720" y="1827360"/>
              <a:ext cx="1398240" cy="378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ff00"/>
                  </a:solidFill>
                  <a:latin typeface="Tahoma"/>
                </a:rPr>
                <a:t>HISTORY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Text Box 15"/>
            <p:cNvSpPr/>
            <p:nvPr/>
          </p:nvSpPr>
          <p:spPr>
            <a:xfrm>
              <a:off x="1829160" y="2064600"/>
              <a:ext cx="1762920" cy="689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- </a:t>
              </a: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previous history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expectation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learning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Text Box 16"/>
            <p:cNvSpPr/>
            <p:nvPr/>
          </p:nvSpPr>
          <p:spPr>
            <a:xfrm>
              <a:off x="3627360" y="5956920"/>
              <a:ext cx="2017080" cy="689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Times New Roman"/>
                </a:rPr>
                <a:t>-</a:t>
              </a:r>
              <a:r>
                <a:rPr b="1" lang="en-US" sz="1600" spc="-1" strike="noStrike">
                  <a:solidFill>
                    <a:srgbClr val="00ffff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ffff"/>
                  </a:solidFill>
                  <a:latin typeface="Tahoma"/>
                </a:rPr>
                <a:t>social interactions</a:t>
              </a:r>
              <a:br>
                <a:rPr sz="1400"/>
              </a:br>
              <a:r>
                <a:rPr b="1" lang="en-US" sz="1400" spc="-1" strike="noStrike">
                  <a:solidFill>
                    <a:srgbClr val="00ffff"/>
                  </a:solidFill>
                  <a:latin typeface="Tahoma"/>
                </a:rPr>
                <a:t>- stress</a:t>
              </a:r>
              <a:br>
                <a:rPr sz="1400"/>
              </a:br>
              <a:r>
                <a:rPr b="1" lang="en-US" sz="1400" spc="-1" strike="noStrike">
                  <a:solidFill>
                    <a:srgbClr val="00ffff"/>
                  </a:solidFill>
                  <a:latin typeface="Tahoma"/>
                </a:rPr>
                <a:t>- conditioned stimul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17"/>
            <p:cNvSpPr/>
            <p:nvPr/>
          </p:nvSpPr>
          <p:spPr>
            <a:xfrm>
              <a:off x="5882760" y="2022840"/>
              <a:ext cx="1909080" cy="87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00"/>
                  </a:solidFill>
                  <a:latin typeface="Times New Roman"/>
                </a:rPr>
                <a:t>-</a:t>
              </a:r>
              <a:r>
                <a:rPr b="1" lang="en-US" sz="1600" spc="-1" strike="noStrike">
                  <a:solidFill>
                    <a:srgbClr val="00ff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genetics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circadian rhythms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disease states</a:t>
              </a:r>
              <a:br>
                <a:rPr sz="1400"/>
              </a:br>
              <a:r>
                <a:rPr b="1" lang="en-US" sz="1400" spc="-1" strike="noStrike">
                  <a:solidFill>
                    <a:srgbClr val="00ff00"/>
                  </a:solidFill>
                  <a:latin typeface="Tahoma"/>
                </a:rPr>
                <a:t>- gende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Group 18"/>
            <p:cNvGrpSpPr/>
            <p:nvPr/>
          </p:nvGrpSpPr>
          <p:grpSpPr>
            <a:xfrm>
              <a:off x="4409640" y="2466000"/>
              <a:ext cx="343800" cy="786960"/>
              <a:chOff x="4409640" y="2466000"/>
              <a:chExt cx="343800" cy="786960"/>
            </a:xfrm>
          </p:grpSpPr>
          <p:sp>
            <p:nvSpPr>
              <p:cNvPr id="272" name="Rectangle 19"/>
              <p:cNvSpPr/>
              <p:nvPr/>
            </p:nvSpPr>
            <p:spPr>
              <a:xfrm flipV="1">
                <a:off x="4535280" y="2465640"/>
                <a:ext cx="102240" cy="587160"/>
              </a:xfrm>
              <a:prstGeom prst="rect">
                <a:avLst/>
              </a:prstGeom>
              <a:gradFill rotWithShape="0">
                <a:gsLst>
                  <a:gs pos="0">
                    <a:srgbClr val="00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20"/>
              <p:cNvSpPr/>
              <p:nvPr/>
            </p:nvSpPr>
            <p:spPr>
              <a:xfrm>
                <a:off x="4409640" y="3018240"/>
                <a:ext cx="343800" cy="23472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0"/>
                    </a:moveTo>
                    <a:lnTo>
                      <a:pt x="119" y="207"/>
                    </a:ln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Rectangle 21"/>
            <p:cNvSpPr/>
            <p:nvPr/>
          </p:nvSpPr>
          <p:spPr>
            <a:xfrm flipV="1">
              <a:off x="5880240" y="4917240"/>
              <a:ext cx="1229040" cy="84600"/>
            </a:xfrm>
            <a:prstGeom prst="rect">
              <a:avLst/>
            </a:prstGeom>
            <a:solidFill>
              <a:srgbClr val="ff0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2"/>
            <p:cNvSpPr/>
            <p:nvPr/>
          </p:nvSpPr>
          <p:spPr>
            <a:xfrm flipV="1">
              <a:off x="7013520" y="3862440"/>
              <a:ext cx="95760" cy="109188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8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3"/>
            <p:cNvSpPr/>
            <p:nvPr/>
          </p:nvSpPr>
          <p:spPr>
            <a:xfrm flipV="1">
              <a:off x="6469920" y="3813840"/>
              <a:ext cx="63648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24"/>
            <p:cNvSpPr/>
            <p:nvPr/>
          </p:nvSpPr>
          <p:spPr>
            <a:xfrm>
              <a:off x="6288480" y="3746160"/>
              <a:ext cx="307440" cy="23652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8" y="0"/>
                  </a:moveTo>
                  <a:lnTo>
                    <a:pt x="0" y="109"/>
                  </a:lnTo>
                  <a:lnTo>
                    <a:pt x="214" y="209"/>
                  </a:lnTo>
                  <a:lnTo>
                    <a:pt x="208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8" name="Group 25"/>
            <p:cNvGrpSpPr/>
            <p:nvPr/>
          </p:nvGrpSpPr>
          <p:grpSpPr>
            <a:xfrm>
              <a:off x="4439880" y="4088520"/>
              <a:ext cx="342360" cy="657360"/>
              <a:chOff x="4439880" y="4088520"/>
              <a:chExt cx="342360" cy="657360"/>
            </a:xfrm>
          </p:grpSpPr>
          <p:sp>
            <p:nvSpPr>
              <p:cNvPr id="279" name="Rectangle 26"/>
              <p:cNvSpPr/>
              <p:nvPr/>
            </p:nvSpPr>
            <p:spPr>
              <a:xfrm flipV="1">
                <a:off x="4552560" y="4088520"/>
                <a:ext cx="113760" cy="4838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ff0080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Freeform 27"/>
              <p:cNvSpPr/>
              <p:nvPr/>
            </p:nvSpPr>
            <p:spPr>
              <a:xfrm>
                <a:off x="4439880" y="4512960"/>
                <a:ext cx="342360" cy="23292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0" y="0"/>
                    </a:moveTo>
                    <a:lnTo>
                      <a:pt x="119" y="207"/>
                    </a:ln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80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1" name="Group 28"/>
            <p:cNvGrpSpPr/>
            <p:nvPr/>
          </p:nvGrpSpPr>
          <p:grpSpPr>
            <a:xfrm>
              <a:off x="3861000" y="5150880"/>
              <a:ext cx="342360" cy="569880"/>
              <a:chOff x="3861000" y="5150880"/>
              <a:chExt cx="342360" cy="569880"/>
            </a:xfrm>
          </p:grpSpPr>
          <p:sp>
            <p:nvSpPr>
              <p:cNvPr id="282" name="Rectangle 29"/>
              <p:cNvSpPr/>
              <p:nvPr/>
            </p:nvSpPr>
            <p:spPr>
              <a:xfrm flipV="1">
                <a:off x="3982320" y="5150880"/>
                <a:ext cx="95400" cy="331920"/>
              </a:xfrm>
              <a:prstGeom prst="rect">
                <a:avLst/>
              </a:prstGeom>
              <a:gradFill rotWithShape="0">
                <a:gsLst>
                  <a:gs pos="0">
                    <a:srgbClr val="ff008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Freeform 30"/>
              <p:cNvSpPr/>
              <p:nvPr/>
            </p:nvSpPr>
            <p:spPr>
              <a:xfrm>
                <a:off x="3861000" y="5487120"/>
                <a:ext cx="342360" cy="233640"/>
              </a:xfrm>
              <a:custGeom>
                <a:avLst/>
                <a:gdLst/>
                <a:ahLst/>
                <a:rect l="l" t="t" r="r" b="b"/>
                <a:pathLst>
                  <a:path w="240" h="207">
                    <a:moveTo>
                      <a:pt x="0" y="0"/>
                    </a:moveTo>
                    <a:lnTo>
                      <a:pt x="119" y="206"/>
                    </a:lnTo>
                    <a:lnTo>
                      <a:pt x="23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31"/>
            <p:cNvGrpSpPr/>
            <p:nvPr/>
          </p:nvGrpSpPr>
          <p:grpSpPr>
            <a:xfrm>
              <a:off x="4825080" y="5150880"/>
              <a:ext cx="340920" cy="564840"/>
              <a:chOff x="4825080" y="5150880"/>
              <a:chExt cx="340920" cy="564840"/>
            </a:xfrm>
          </p:grpSpPr>
          <p:sp>
            <p:nvSpPr>
              <p:cNvPr id="285" name="Rectangle 32"/>
              <p:cNvSpPr/>
              <p:nvPr/>
            </p:nvSpPr>
            <p:spPr>
              <a:xfrm flipV="1">
                <a:off x="4945320" y="5385960"/>
                <a:ext cx="93960" cy="329760"/>
              </a:xfrm>
              <a:prstGeom prst="rect">
                <a:avLst/>
              </a:prstGeom>
              <a:gradFill rotWithShape="0">
                <a:gsLst>
                  <a:gs pos="0">
                    <a:srgbClr val="ff0080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Freeform 33"/>
              <p:cNvSpPr/>
              <p:nvPr/>
            </p:nvSpPr>
            <p:spPr>
              <a:xfrm>
                <a:off x="4825080" y="5150880"/>
                <a:ext cx="340920" cy="235080"/>
              </a:xfrm>
              <a:custGeom>
                <a:avLst/>
                <a:gdLst/>
                <a:ahLst/>
                <a:rect l="l" t="t" r="r" b="b"/>
                <a:pathLst>
                  <a:path w="240" h="208">
                    <a:moveTo>
                      <a:pt x="239" y="207"/>
                    </a:moveTo>
                    <a:lnTo>
                      <a:pt x="120" y="0"/>
                    </a:lnTo>
                    <a:lnTo>
                      <a:pt x="0" y="207"/>
                    </a:lnTo>
                    <a:lnTo>
                      <a:pt x="239" y="207"/>
                    </a:lnTo>
                  </a:path>
                </a:pathLst>
              </a:custGeom>
              <a:solidFill>
                <a:srgbClr val="ff0080"/>
              </a:soli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7" name="Rectangle 34"/>
            <p:cNvSpPr/>
            <p:nvPr/>
          </p:nvSpPr>
          <p:spPr>
            <a:xfrm flipV="1">
              <a:off x="6166800" y="5900760"/>
              <a:ext cx="1568520" cy="9324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5"/>
            <p:cNvSpPr/>
            <p:nvPr/>
          </p:nvSpPr>
          <p:spPr>
            <a:xfrm flipV="1">
              <a:off x="7633440" y="3491280"/>
              <a:ext cx="109440" cy="2425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6"/>
            <p:cNvSpPr/>
            <p:nvPr/>
          </p:nvSpPr>
          <p:spPr>
            <a:xfrm flipV="1">
              <a:off x="6553440" y="3463920"/>
              <a:ext cx="1189080" cy="93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37"/>
            <p:cNvSpPr/>
            <p:nvPr/>
          </p:nvSpPr>
          <p:spPr>
            <a:xfrm flipV="1">
              <a:off x="2422080" y="3893760"/>
              <a:ext cx="455040" cy="1033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38"/>
            <p:cNvSpPr/>
            <p:nvPr/>
          </p:nvSpPr>
          <p:spPr>
            <a:xfrm flipV="1">
              <a:off x="1858320" y="3894480"/>
              <a:ext cx="455400" cy="1094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39"/>
            <p:cNvSpPr/>
            <p:nvPr/>
          </p:nvSpPr>
          <p:spPr>
            <a:xfrm flipV="1">
              <a:off x="1295280" y="3898080"/>
              <a:ext cx="455040" cy="1044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Rectangle 40"/>
            <p:cNvSpPr/>
            <p:nvPr/>
          </p:nvSpPr>
          <p:spPr>
            <a:xfrm flipV="1" rot="16200000">
              <a:off x="1184040" y="4020480"/>
              <a:ext cx="358560" cy="133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Rectangle 41"/>
            <p:cNvSpPr/>
            <p:nvPr/>
          </p:nvSpPr>
          <p:spPr>
            <a:xfrm flipV="1" rot="16200000">
              <a:off x="1182960" y="4456080"/>
              <a:ext cx="358560" cy="13392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008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Rectangle 42"/>
            <p:cNvSpPr/>
            <p:nvPr/>
          </p:nvSpPr>
          <p:spPr>
            <a:xfrm flipV="1" rot="16200000">
              <a:off x="1180440" y="4892040"/>
              <a:ext cx="363600" cy="133920"/>
            </a:xfrm>
            <a:prstGeom prst="rect">
              <a:avLst/>
            </a:prstGeom>
            <a:solidFill>
              <a:srgbClr val="ff008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43"/>
            <p:cNvSpPr/>
            <p:nvPr/>
          </p:nvSpPr>
          <p:spPr>
            <a:xfrm flipV="1" rot="16200000">
              <a:off x="1183320" y="5326200"/>
              <a:ext cx="357480" cy="133920"/>
            </a:xfrm>
            <a:prstGeom prst="rect">
              <a:avLst/>
            </a:prstGeom>
            <a:gradFill rotWithShape="0">
              <a:gsLst>
                <a:gs pos="0">
                  <a:srgbClr val="ff008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Rectangle 44"/>
            <p:cNvSpPr/>
            <p:nvPr/>
          </p:nvSpPr>
          <p:spPr>
            <a:xfrm flipV="1" rot="16200000">
              <a:off x="1182240" y="5758200"/>
              <a:ext cx="359640" cy="13392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Rectangle 45"/>
            <p:cNvSpPr/>
            <p:nvPr/>
          </p:nvSpPr>
          <p:spPr>
            <a:xfrm flipV="1">
              <a:off x="1295280" y="5901480"/>
              <a:ext cx="455040" cy="104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Rectangle 46"/>
            <p:cNvSpPr/>
            <p:nvPr/>
          </p:nvSpPr>
          <p:spPr>
            <a:xfrm flipV="1">
              <a:off x="1852560" y="5901480"/>
              <a:ext cx="455040" cy="104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47"/>
            <p:cNvSpPr/>
            <p:nvPr/>
          </p:nvSpPr>
          <p:spPr>
            <a:xfrm flipV="1">
              <a:off x="2408040" y="5901480"/>
              <a:ext cx="453600" cy="104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48"/>
            <p:cNvSpPr/>
            <p:nvPr/>
          </p:nvSpPr>
          <p:spPr>
            <a:xfrm>
              <a:off x="6285600" y="3375360"/>
              <a:ext cx="298440" cy="255240"/>
            </a:xfrm>
            <a:custGeom>
              <a:avLst/>
              <a:gdLst/>
              <a:ahLst/>
              <a:rect l="l" t="t" r="r" b="b"/>
              <a:pathLst>
                <a:path w="207" h="227">
                  <a:moveTo>
                    <a:pt x="201" y="0"/>
                  </a:moveTo>
                  <a:lnTo>
                    <a:pt x="0" y="118"/>
                  </a:lnTo>
                  <a:lnTo>
                    <a:pt x="206" y="226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ff00"/>
                </a:gs>
              </a:gsLst>
              <a:lin ang="5400000"/>
            </a:gra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2" name="Group 49"/>
            <p:cNvGrpSpPr/>
            <p:nvPr/>
          </p:nvGrpSpPr>
          <p:grpSpPr>
            <a:xfrm>
              <a:off x="5036760" y="2408400"/>
              <a:ext cx="922680" cy="948960"/>
              <a:chOff x="5036760" y="2408400"/>
              <a:chExt cx="922680" cy="948960"/>
            </a:xfrm>
          </p:grpSpPr>
          <p:sp>
            <p:nvSpPr>
              <p:cNvPr id="303" name="Freeform 50"/>
              <p:cNvSpPr/>
              <p:nvPr/>
            </p:nvSpPr>
            <p:spPr>
              <a:xfrm rot="20733000">
                <a:off x="5110920" y="2493720"/>
                <a:ext cx="773640" cy="694800"/>
              </a:xfrm>
              <a:custGeom>
                <a:avLst/>
                <a:gdLst/>
                <a:ahLst/>
                <a:rect l="l" t="t" r="r" b="b"/>
                <a:pathLst>
                  <a:path w="581" h="498">
                    <a:moveTo>
                      <a:pt x="47" y="497"/>
                    </a:moveTo>
                    <a:lnTo>
                      <a:pt x="580" y="31"/>
                    </a:lnTo>
                    <a:lnTo>
                      <a:pt x="533" y="0"/>
                    </a:lnTo>
                    <a:lnTo>
                      <a:pt x="0" y="467"/>
                    </a:lnTo>
                    <a:lnTo>
                      <a:pt x="47" y="497"/>
                    </a:lnTo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51"/>
              <p:cNvSpPr/>
              <p:nvPr/>
            </p:nvSpPr>
            <p:spPr>
              <a:xfrm rot="20733000">
                <a:off x="5121000" y="3056040"/>
                <a:ext cx="324000" cy="264960"/>
              </a:xfrm>
              <a:custGeom>
                <a:avLst/>
                <a:gdLst/>
                <a:ahLst/>
                <a:rect l="l" t="t" r="r" b="b"/>
                <a:pathLst>
                  <a:path w="225" h="236">
                    <a:moveTo>
                      <a:pt x="224" y="154"/>
                    </a:moveTo>
                    <a:lnTo>
                      <a:pt x="0" y="235"/>
                    </a:lnTo>
                    <a:lnTo>
                      <a:pt x="42" y="0"/>
                    </a:lnTo>
                    <a:lnTo>
                      <a:pt x="224" y="154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5" name="Freeform 52"/>
            <p:cNvSpPr/>
            <p:nvPr/>
          </p:nvSpPr>
          <p:spPr>
            <a:xfrm>
              <a:off x="2743200" y="5818320"/>
              <a:ext cx="297000" cy="271080"/>
            </a:xfrm>
            <a:custGeom>
              <a:avLst/>
              <a:gdLst/>
              <a:ahLst/>
              <a:rect l="l" t="t" r="r" b="b"/>
              <a:pathLst>
                <a:path w="208" h="240">
                  <a:moveTo>
                    <a:pt x="0" y="239"/>
                  </a:moveTo>
                  <a:lnTo>
                    <a:pt x="207" y="119"/>
                  </a:lnTo>
                  <a:lnTo>
                    <a:pt x="0" y="0"/>
                  </a:lnTo>
                  <a:lnTo>
                    <a:pt x="0" y="239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5877720" y="1837800"/>
              <a:ext cx="1342080" cy="352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ff00"/>
                  </a:solidFill>
                  <a:latin typeface="Tahoma"/>
                </a:rPr>
                <a:t>BIOLOG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7" name="Group 54"/>
            <p:cNvGrpSpPr/>
            <p:nvPr/>
          </p:nvGrpSpPr>
          <p:grpSpPr>
            <a:xfrm>
              <a:off x="3204720" y="2386800"/>
              <a:ext cx="922320" cy="949320"/>
              <a:chOff x="3204720" y="2386800"/>
              <a:chExt cx="922320" cy="949320"/>
            </a:xfrm>
          </p:grpSpPr>
          <p:sp>
            <p:nvSpPr>
              <p:cNvPr id="308" name="Freeform 55"/>
              <p:cNvSpPr/>
              <p:nvPr/>
            </p:nvSpPr>
            <p:spPr>
              <a:xfrm flipH="1" rot="867000">
                <a:off x="3278880" y="2472120"/>
                <a:ext cx="773640" cy="694080"/>
              </a:xfrm>
              <a:custGeom>
                <a:avLst/>
                <a:gdLst/>
                <a:ahLst/>
                <a:rect l="l" t="t" r="r" b="b"/>
                <a:pathLst>
                  <a:path w="581" h="498">
                    <a:moveTo>
                      <a:pt x="47" y="497"/>
                    </a:moveTo>
                    <a:lnTo>
                      <a:pt x="580" y="31"/>
                    </a:lnTo>
                    <a:lnTo>
                      <a:pt x="533" y="0"/>
                    </a:lnTo>
                    <a:lnTo>
                      <a:pt x="0" y="467"/>
                    </a:lnTo>
                    <a:lnTo>
                      <a:pt x="47" y="497"/>
                    </a:lnTo>
                  </a:path>
                </a:pathLst>
              </a:custGeom>
              <a:gradFill rotWithShape="0">
                <a:gsLst>
                  <a:gs pos="0">
                    <a:srgbClr val="00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Freeform 56"/>
              <p:cNvSpPr/>
              <p:nvPr/>
            </p:nvSpPr>
            <p:spPr>
              <a:xfrm flipH="1" rot="867000">
                <a:off x="3717720" y="3032640"/>
                <a:ext cx="324360" cy="266760"/>
              </a:xfrm>
              <a:custGeom>
                <a:avLst/>
                <a:gdLst/>
                <a:ahLst/>
                <a:rect l="l" t="t" r="r" b="b"/>
                <a:pathLst>
                  <a:path w="225" h="236">
                    <a:moveTo>
                      <a:pt x="224" y="154"/>
                    </a:moveTo>
                    <a:lnTo>
                      <a:pt x="0" y="235"/>
                    </a:lnTo>
                    <a:lnTo>
                      <a:pt x="42" y="0"/>
                    </a:lnTo>
                    <a:lnTo>
                      <a:pt x="224" y="154"/>
                    </a:lnTo>
                  </a:path>
                </a:pathLst>
              </a:custGeom>
              <a:gradFill rotWithShape="0">
                <a:gsLst>
                  <a:gs pos="0">
                    <a:srgbClr val="ffff00"/>
                  </a:gs>
                  <a:gs pos="100000">
                    <a:srgbClr val="ffff00"/>
                  </a:gs>
                </a:gsLst>
                <a:lin ang="5400000"/>
              </a:gradFill>
              <a:ln w="0">
                <a:noFill/>
              </a:ln>
              <a:effectLst>
                <a:outerShdw dist="36147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0" name="Rectangle 57"/>
          <p:cNvSpPr/>
          <p:nvPr/>
        </p:nvSpPr>
        <p:spPr>
          <a:xfrm>
            <a:off x="0" y="152280"/>
            <a:ext cx="91440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Зависност од дрога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комплексан бихејвиорални и н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еуробиоло</a:t>
            </a:r>
            <a:r>
              <a:rPr b="1" lang="sr-Latn-CS" sz="3600" spc="-1" strike="noStrike">
                <a:solidFill>
                  <a:srgbClr val="ffffff"/>
                </a:solidFill>
                <a:latin typeface="Tahoma"/>
              </a:rPr>
              <a:t>шки поремећа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990720" y="42670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6" descr=""/>
          <p:cNvPicPr/>
          <p:nvPr/>
        </p:nvPicPr>
        <p:blipFill>
          <a:blip r:embed="rId1"/>
          <a:stretch/>
        </p:blipFill>
        <p:spPr>
          <a:xfrm>
            <a:off x="182520" y="1390680"/>
            <a:ext cx="8839080" cy="539100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7"/>
          <p:cNvSpPr/>
          <p:nvPr/>
        </p:nvSpPr>
        <p:spPr>
          <a:xfrm>
            <a:off x="55627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Garamond"/>
              </a:rPr>
              <a:t>Dopami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1066680" y="426708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Garamond"/>
              </a:rPr>
              <a:t>Dendritic Spin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0" y="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Поновљена злоупотре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дрог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повећа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нет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ску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анс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рипцију</a:t>
            </a:r>
            <a:r>
              <a:rPr b="1" lang="sr-C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што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е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з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лт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р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дуготрајним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ру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у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ним промен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267480" y="2057400"/>
            <a:ext cx="387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dapted from Nestler E.J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Science &amp; Practice Perspectives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5(1) 2005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52"/>
          <p:cNvGrpSpPr/>
          <p:nvPr/>
        </p:nvGrpSpPr>
        <p:grpSpPr>
          <a:xfrm>
            <a:off x="152280" y="1905120"/>
            <a:ext cx="8991360" cy="4456080"/>
            <a:chOff x="152280" y="1905120"/>
            <a:chExt cx="8991360" cy="4456080"/>
          </a:xfrm>
        </p:grpSpPr>
        <p:sp>
          <p:nvSpPr>
            <p:cNvPr id="322" name="Text Box 5"/>
            <p:cNvSpPr/>
            <p:nvPr/>
          </p:nvSpPr>
          <p:spPr>
            <a:xfrm rot="10800000">
              <a:off x="5208120" y="3296160"/>
              <a:ext cx="500400" cy="1471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330066"/>
                  </a:solidFill>
                  <a:latin typeface="Osaka"/>
                </a:rPr>
                <a:t>Branches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6"/>
            <p:cNvSpPr/>
            <p:nvPr/>
          </p:nvSpPr>
          <p:spPr>
            <a:xfrm>
              <a:off x="1436760" y="5829480"/>
              <a:ext cx="13644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7"/>
            <p:cNvSpPr/>
            <p:nvPr/>
          </p:nvSpPr>
          <p:spPr>
            <a:xfrm>
              <a:off x="1517040" y="4374720"/>
              <a:ext cx="561600" cy="1430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079000" y="2477160"/>
              <a:ext cx="642240" cy="332496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9"/>
            <p:cNvSpPr/>
            <p:nvPr/>
          </p:nvSpPr>
          <p:spPr>
            <a:xfrm flipH="1">
              <a:off x="1139040" y="5844600"/>
              <a:ext cx="32256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10"/>
            <p:cNvSpPr/>
            <p:nvPr/>
          </p:nvSpPr>
          <p:spPr>
            <a:xfrm>
              <a:off x="6735240" y="3621960"/>
              <a:ext cx="481680" cy="2207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11"/>
            <p:cNvSpPr/>
            <p:nvPr/>
          </p:nvSpPr>
          <p:spPr>
            <a:xfrm>
              <a:off x="7216920" y="2313720"/>
              <a:ext cx="641880" cy="348840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12"/>
            <p:cNvSpPr/>
            <p:nvPr/>
          </p:nvSpPr>
          <p:spPr>
            <a:xfrm>
              <a:off x="5686560" y="198648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13"/>
            <p:cNvSpPr/>
            <p:nvPr/>
          </p:nvSpPr>
          <p:spPr>
            <a:xfrm>
              <a:off x="5762160" y="3114360"/>
              <a:ext cx="80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5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14"/>
            <p:cNvSpPr/>
            <p:nvPr/>
          </p:nvSpPr>
          <p:spPr>
            <a:xfrm>
              <a:off x="5767200" y="445644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5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Text Box 15"/>
            <p:cNvSpPr/>
            <p:nvPr/>
          </p:nvSpPr>
          <p:spPr>
            <a:xfrm>
              <a:off x="5767200" y="558432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4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6"/>
            <p:cNvSpPr/>
            <p:nvPr/>
          </p:nvSpPr>
          <p:spPr>
            <a:xfrm>
              <a:off x="548280" y="190512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1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7"/>
            <p:cNvSpPr/>
            <p:nvPr/>
          </p:nvSpPr>
          <p:spPr>
            <a:xfrm>
              <a:off x="548280" y="313128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18"/>
            <p:cNvSpPr/>
            <p:nvPr/>
          </p:nvSpPr>
          <p:spPr>
            <a:xfrm>
              <a:off x="633960" y="4439520"/>
              <a:ext cx="80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19"/>
            <p:cNvSpPr/>
            <p:nvPr/>
          </p:nvSpPr>
          <p:spPr>
            <a:xfrm>
              <a:off x="628920" y="5601240"/>
              <a:ext cx="80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Garamond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20"/>
            <p:cNvSpPr/>
            <p:nvPr/>
          </p:nvSpPr>
          <p:spPr>
            <a:xfrm>
              <a:off x="6495840" y="2085480"/>
              <a:ext cx="25200" cy="3774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1"/>
            <p:cNvSpPr/>
            <p:nvPr/>
          </p:nvSpPr>
          <p:spPr>
            <a:xfrm flipH="1">
              <a:off x="6173280" y="3311640"/>
              <a:ext cx="32256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2"/>
            <p:cNvSpPr/>
            <p:nvPr/>
          </p:nvSpPr>
          <p:spPr>
            <a:xfrm flipH="1">
              <a:off x="6173280" y="462024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 flipH="1">
              <a:off x="6333840" y="2737800"/>
              <a:ext cx="16164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24"/>
            <p:cNvSpPr/>
            <p:nvPr/>
          </p:nvSpPr>
          <p:spPr>
            <a:xfrm flipH="1">
              <a:off x="6333840" y="3965760"/>
              <a:ext cx="16164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5"/>
            <p:cNvSpPr/>
            <p:nvPr/>
          </p:nvSpPr>
          <p:spPr>
            <a:xfrm flipH="1">
              <a:off x="6093360" y="2167200"/>
              <a:ext cx="40104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26"/>
            <p:cNvSpPr/>
            <p:nvPr/>
          </p:nvSpPr>
          <p:spPr>
            <a:xfrm flipH="1">
              <a:off x="6333840" y="5274000"/>
              <a:ext cx="16164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27"/>
            <p:cNvSpPr/>
            <p:nvPr/>
          </p:nvSpPr>
          <p:spPr>
            <a:xfrm flipH="1">
              <a:off x="953280" y="5829480"/>
              <a:ext cx="56340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45" name="Picture 28" descr=""/>
            <p:cNvPicPr/>
            <p:nvPr/>
          </p:nvPicPr>
          <p:blipFill>
            <a:blip r:embed="rId1"/>
            <a:stretch/>
          </p:blipFill>
          <p:spPr>
            <a:xfrm>
              <a:off x="152280" y="3148560"/>
              <a:ext cx="44820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Line 29"/>
            <p:cNvSpPr/>
            <p:nvPr/>
          </p:nvSpPr>
          <p:spPr>
            <a:xfrm>
              <a:off x="1276200" y="2068200"/>
              <a:ext cx="0" cy="3774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30"/>
            <p:cNvSpPr/>
            <p:nvPr/>
          </p:nvSpPr>
          <p:spPr>
            <a:xfrm flipH="1">
              <a:off x="929880" y="329472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31"/>
            <p:cNvSpPr/>
            <p:nvPr/>
          </p:nvSpPr>
          <p:spPr>
            <a:xfrm flipH="1">
              <a:off x="929880" y="460332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32"/>
            <p:cNvSpPr/>
            <p:nvPr/>
          </p:nvSpPr>
          <p:spPr>
            <a:xfrm flipH="1">
              <a:off x="1089000" y="2720880"/>
              <a:ext cx="16200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33"/>
            <p:cNvSpPr/>
            <p:nvPr/>
          </p:nvSpPr>
          <p:spPr>
            <a:xfrm flipH="1">
              <a:off x="1090440" y="3948840"/>
              <a:ext cx="162000" cy="18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34"/>
            <p:cNvSpPr/>
            <p:nvPr/>
          </p:nvSpPr>
          <p:spPr>
            <a:xfrm flipH="1">
              <a:off x="953640" y="2167200"/>
              <a:ext cx="32256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35"/>
            <p:cNvSpPr/>
            <p:nvPr/>
          </p:nvSpPr>
          <p:spPr>
            <a:xfrm flipH="1">
              <a:off x="1090440" y="5257080"/>
              <a:ext cx="162000" cy="144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3" name="Picture 36" descr=""/>
            <p:cNvPicPr/>
            <p:nvPr/>
          </p:nvPicPr>
          <p:blipFill>
            <a:blip r:embed="rId2"/>
            <a:stretch/>
          </p:blipFill>
          <p:spPr>
            <a:xfrm>
              <a:off x="8020080" y="4357800"/>
              <a:ext cx="1045080" cy="104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37" descr=""/>
            <p:cNvPicPr/>
            <p:nvPr/>
          </p:nvPicPr>
          <p:blipFill>
            <a:blip r:embed="rId3"/>
            <a:stretch/>
          </p:blipFill>
          <p:spPr>
            <a:xfrm>
              <a:off x="8020080" y="2558880"/>
              <a:ext cx="1066680" cy="11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Rectangle 38"/>
            <p:cNvSpPr/>
            <p:nvPr/>
          </p:nvSpPr>
          <p:spPr>
            <a:xfrm>
              <a:off x="8020080" y="5420520"/>
              <a:ext cx="112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Rectangle 39"/>
            <p:cNvSpPr/>
            <p:nvPr/>
          </p:nvSpPr>
          <p:spPr>
            <a:xfrm>
              <a:off x="8201160" y="3703320"/>
              <a:ext cx="666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40"/>
            <p:cNvGrpSpPr/>
            <p:nvPr/>
          </p:nvGrpSpPr>
          <p:grpSpPr>
            <a:xfrm>
              <a:off x="3283200" y="2231640"/>
              <a:ext cx="1524960" cy="3679200"/>
              <a:chOff x="3283200" y="2231640"/>
              <a:chExt cx="1524960" cy="3679200"/>
            </a:xfrm>
          </p:grpSpPr>
          <p:pic>
            <p:nvPicPr>
              <p:cNvPr id="358" name="Picture 41" descr=""/>
              <p:cNvPicPr/>
              <p:nvPr/>
            </p:nvPicPr>
            <p:blipFill>
              <a:blip r:embed="rId4"/>
              <a:srcRect l="11339" t="10247" r="62828" b="7988"/>
              <a:stretch/>
            </p:blipFill>
            <p:spPr>
              <a:xfrm>
                <a:off x="3283200" y="2231640"/>
                <a:ext cx="762480" cy="367920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  <p:pic>
            <p:nvPicPr>
              <p:cNvPr id="359" name="Picture 42" descr=""/>
              <p:cNvPicPr/>
              <p:nvPr/>
            </p:nvPicPr>
            <p:blipFill>
              <a:blip r:embed="rId5"/>
              <a:srcRect l="63017" t="10247" r="11144" b="7988"/>
              <a:stretch/>
            </p:blipFill>
            <p:spPr>
              <a:xfrm>
                <a:off x="4045680" y="2231640"/>
                <a:ext cx="762480" cy="3679200"/>
              </a:xfrm>
              <a:prstGeom prst="rect">
                <a:avLst/>
              </a:prstGeom>
              <a:ln w="19080">
                <a:solidFill>
                  <a:srgbClr val="000000"/>
                </a:solidFill>
                <a:miter/>
              </a:ln>
            </p:spPr>
          </p:pic>
        </p:grpSp>
        <p:sp>
          <p:nvSpPr>
            <p:cNvPr id="360" name="Line 43"/>
            <p:cNvSpPr/>
            <p:nvPr/>
          </p:nvSpPr>
          <p:spPr>
            <a:xfrm flipH="1">
              <a:off x="6173280" y="5829480"/>
              <a:ext cx="322560" cy="14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44"/>
            <p:cNvSpPr/>
            <p:nvPr/>
          </p:nvSpPr>
          <p:spPr>
            <a:xfrm>
              <a:off x="6494400" y="5829480"/>
              <a:ext cx="1364400" cy="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Text Box 45"/>
            <p:cNvSpPr/>
            <p:nvPr/>
          </p:nvSpPr>
          <p:spPr>
            <a:xfrm>
              <a:off x="5932440" y="5911200"/>
              <a:ext cx="280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   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46"/>
            <p:cNvSpPr/>
            <p:nvPr/>
          </p:nvSpPr>
          <p:spPr>
            <a:xfrm flipV="1">
              <a:off x="1517040" y="3621960"/>
              <a:ext cx="2086920" cy="817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47"/>
            <p:cNvSpPr/>
            <p:nvPr/>
          </p:nvSpPr>
          <p:spPr>
            <a:xfrm>
              <a:off x="2721240" y="2558880"/>
              <a:ext cx="1524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48"/>
            <p:cNvSpPr/>
            <p:nvPr/>
          </p:nvSpPr>
          <p:spPr>
            <a:xfrm>
              <a:off x="7216920" y="2313720"/>
              <a:ext cx="882720" cy="490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49"/>
            <p:cNvSpPr/>
            <p:nvPr/>
          </p:nvSpPr>
          <p:spPr>
            <a:xfrm>
              <a:off x="6735240" y="3621960"/>
              <a:ext cx="1284480" cy="106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Text Box 50"/>
            <p:cNvSpPr/>
            <p:nvPr/>
          </p:nvSpPr>
          <p:spPr>
            <a:xfrm>
              <a:off x="2962080" y="5992920"/>
              <a:ext cx="232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     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1"/>
            <p:cNvSpPr/>
            <p:nvPr/>
          </p:nvSpPr>
          <p:spPr>
            <a:xfrm>
              <a:off x="473400" y="5992920"/>
              <a:ext cx="280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         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Garamond"/>
                </a:rPr>
                <a:t>CTL     CO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Text Box 53"/>
          <p:cNvSpPr/>
          <p:nvPr/>
        </p:nvSpPr>
        <p:spPr>
          <a:xfrm>
            <a:off x="0" y="45720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они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чна злоупотреб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аин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повећава густину дендитритск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споје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гранање неурона у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ucle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 a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ccu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bens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-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3701880" y="6384960"/>
            <a:ext cx="82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100" spc="-1" strike="noStrike">
                <a:solidFill>
                  <a:srgbClr val="ffffff"/>
                </a:solidFill>
                <a:latin typeface="Tahoma"/>
                <a:ea typeface="Osaka"/>
              </a:rPr>
              <a:t>узраст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7"/>
          <p:cNvSpPr/>
          <p:nvPr/>
        </p:nvSpPr>
        <p:spPr>
          <a:xfrm>
            <a:off x="1639800" y="1400040"/>
            <a:ext cx="1800" cy="465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1598760" y="5967360"/>
            <a:ext cx="522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1598760" y="565164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10"/>
          <p:cNvSpPr/>
          <p:nvPr/>
        </p:nvSpPr>
        <p:spPr>
          <a:xfrm>
            <a:off x="1598760" y="523404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ne 11"/>
          <p:cNvSpPr/>
          <p:nvPr/>
        </p:nvSpPr>
        <p:spPr>
          <a:xfrm>
            <a:off x="1598760" y="483084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1598760" y="442440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Line 13"/>
          <p:cNvSpPr/>
          <p:nvPr/>
        </p:nvSpPr>
        <p:spPr>
          <a:xfrm>
            <a:off x="1598760" y="400860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4"/>
          <p:cNvSpPr/>
          <p:nvPr/>
        </p:nvSpPr>
        <p:spPr>
          <a:xfrm>
            <a:off x="1598760" y="360360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5"/>
          <p:cNvSpPr/>
          <p:nvPr/>
        </p:nvSpPr>
        <p:spPr>
          <a:xfrm>
            <a:off x="1598760" y="319896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1598760" y="2782800"/>
            <a:ext cx="522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7"/>
          <p:cNvSpPr/>
          <p:nvPr/>
        </p:nvSpPr>
        <p:spPr>
          <a:xfrm>
            <a:off x="1598760" y="2378160"/>
            <a:ext cx="522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>
            <a:off x="1682640" y="6056280"/>
            <a:ext cx="7004160" cy="180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Freeform 19"/>
          <p:cNvSpPr/>
          <p:nvPr/>
        </p:nvSpPr>
        <p:spPr>
          <a:xfrm>
            <a:off x="1724040" y="1746360"/>
            <a:ext cx="6900840" cy="4309920"/>
          </a:xfrm>
          <a:custGeom>
            <a:avLst/>
            <a:gdLst>
              <a:gd name="textAreaLeft" fmla="*/ 0 w 6900840"/>
              <a:gd name="textAreaRight" fmla="*/ 6901200 w 6900840"/>
              <a:gd name="textAreaTop" fmla="*/ 0 h 4309920"/>
              <a:gd name="textAreaBottom" fmla="*/ 4310280 h 4309920"/>
            </a:gdLst>
            <a:ahLst/>
            <a:rect l="textAreaLeft" t="textAreaTop" r="textAreaRight" b="textAreaBottom"/>
            <a:pathLst>
              <a:path w="4561" h="2525">
                <a:moveTo>
                  <a:pt x="0" y="2525"/>
                </a:moveTo>
                <a:lnTo>
                  <a:pt x="62" y="2525"/>
                </a:lnTo>
                <a:lnTo>
                  <a:pt x="124" y="2525"/>
                </a:lnTo>
                <a:lnTo>
                  <a:pt x="195" y="2516"/>
                </a:lnTo>
                <a:lnTo>
                  <a:pt x="257" y="2525"/>
                </a:lnTo>
                <a:lnTo>
                  <a:pt x="327" y="2525"/>
                </a:lnTo>
                <a:lnTo>
                  <a:pt x="389" y="2516"/>
                </a:lnTo>
                <a:lnTo>
                  <a:pt x="451" y="2454"/>
                </a:lnTo>
                <a:lnTo>
                  <a:pt x="522" y="2445"/>
                </a:lnTo>
                <a:lnTo>
                  <a:pt x="584" y="2295"/>
                </a:lnTo>
                <a:lnTo>
                  <a:pt x="646" y="2119"/>
                </a:lnTo>
                <a:lnTo>
                  <a:pt x="716" y="1704"/>
                </a:lnTo>
                <a:lnTo>
                  <a:pt x="778" y="1404"/>
                </a:lnTo>
                <a:lnTo>
                  <a:pt x="849" y="0"/>
                </a:lnTo>
                <a:lnTo>
                  <a:pt x="911" y="468"/>
                </a:lnTo>
                <a:lnTo>
                  <a:pt x="973" y="795"/>
                </a:lnTo>
                <a:lnTo>
                  <a:pt x="1043" y="548"/>
                </a:lnTo>
                <a:lnTo>
                  <a:pt x="1105" y="1271"/>
                </a:lnTo>
                <a:lnTo>
                  <a:pt x="1176" y="1730"/>
                </a:lnTo>
                <a:lnTo>
                  <a:pt x="1238" y="1827"/>
                </a:lnTo>
                <a:lnTo>
                  <a:pt x="1300" y="1421"/>
                </a:lnTo>
                <a:lnTo>
                  <a:pt x="1370" y="2154"/>
                </a:lnTo>
                <a:lnTo>
                  <a:pt x="1432" y="2119"/>
                </a:lnTo>
                <a:lnTo>
                  <a:pt x="1494" y="1995"/>
                </a:lnTo>
                <a:lnTo>
                  <a:pt x="1565" y="2163"/>
                </a:lnTo>
                <a:lnTo>
                  <a:pt x="1627" y="1668"/>
                </a:lnTo>
                <a:lnTo>
                  <a:pt x="1697" y="2295"/>
                </a:lnTo>
                <a:lnTo>
                  <a:pt x="1759" y="2198"/>
                </a:lnTo>
                <a:lnTo>
                  <a:pt x="1821" y="2313"/>
                </a:lnTo>
                <a:lnTo>
                  <a:pt x="1892" y="2207"/>
                </a:lnTo>
                <a:lnTo>
                  <a:pt x="1954" y="1907"/>
                </a:lnTo>
                <a:lnTo>
                  <a:pt x="2015" y="2295"/>
                </a:lnTo>
                <a:lnTo>
                  <a:pt x="2086" y="2251"/>
                </a:lnTo>
                <a:lnTo>
                  <a:pt x="2148" y="2145"/>
                </a:lnTo>
                <a:lnTo>
                  <a:pt x="2219" y="2233"/>
                </a:lnTo>
                <a:lnTo>
                  <a:pt x="2281" y="1951"/>
                </a:lnTo>
                <a:lnTo>
                  <a:pt x="2343" y="2322"/>
                </a:lnTo>
                <a:lnTo>
                  <a:pt x="2413" y="2313"/>
                </a:lnTo>
                <a:lnTo>
                  <a:pt x="2475" y="2383"/>
                </a:lnTo>
                <a:lnTo>
                  <a:pt x="2546" y="2304"/>
                </a:lnTo>
                <a:lnTo>
                  <a:pt x="2608" y="2083"/>
                </a:lnTo>
                <a:lnTo>
                  <a:pt x="2670" y="2322"/>
                </a:lnTo>
                <a:lnTo>
                  <a:pt x="2740" y="2383"/>
                </a:lnTo>
                <a:lnTo>
                  <a:pt x="2802" y="2375"/>
                </a:lnTo>
                <a:lnTo>
                  <a:pt x="2864" y="2383"/>
                </a:lnTo>
                <a:lnTo>
                  <a:pt x="2935" y="2357"/>
                </a:lnTo>
                <a:lnTo>
                  <a:pt x="2997" y="2472"/>
                </a:lnTo>
                <a:lnTo>
                  <a:pt x="3067" y="2392"/>
                </a:lnTo>
                <a:lnTo>
                  <a:pt x="3129" y="2410"/>
                </a:lnTo>
                <a:lnTo>
                  <a:pt x="3191" y="2480"/>
                </a:lnTo>
                <a:lnTo>
                  <a:pt x="3262" y="2419"/>
                </a:lnTo>
                <a:lnTo>
                  <a:pt x="3324" y="2436"/>
                </a:lnTo>
                <a:lnTo>
                  <a:pt x="3385" y="2463"/>
                </a:lnTo>
                <a:lnTo>
                  <a:pt x="3456" y="2480"/>
                </a:lnTo>
                <a:lnTo>
                  <a:pt x="3518" y="2419"/>
                </a:lnTo>
                <a:lnTo>
                  <a:pt x="3589" y="2436"/>
                </a:lnTo>
                <a:lnTo>
                  <a:pt x="3651" y="2498"/>
                </a:lnTo>
                <a:lnTo>
                  <a:pt x="3712" y="2410"/>
                </a:lnTo>
                <a:lnTo>
                  <a:pt x="3783" y="2498"/>
                </a:lnTo>
                <a:lnTo>
                  <a:pt x="3845" y="2480"/>
                </a:lnTo>
                <a:lnTo>
                  <a:pt x="3916" y="2445"/>
                </a:lnTo>
                <a:lnTo>
                  <a:pt x="3978" y="2472"/>
                </a:lnTo>
                <a:lnTo>
                  <a:pt x="4040" y="2507"/>
                </a:lnTo>
                <a:lnTo>
                  <a:pt x="4110" y="2525"/>
                </a:lnTo>
                <a:lnTo>
                  <a:pt x="4172" y="2489"/>
                </a:lnTo>
                <a:lnTo>
                  <a:pt x="4234" y="2480"/>
                </a:lnTo>
                <a:lnTo>
                  <a:pt x="4305" y="2525"/>
                </a:lnTo>
                <a:lnTo>
                  <a:pt x="4367" y="2445"/>
                </a:lnTo>
                <a:lnTo>
                  <a:pt x="4437" y="2525"/>
                </a:lnTo>
                <a:lnTo>
                  <a:pt x="4499" y="2525"/>
                </a:lnTo>
                <a:lnTo>
                  <a:pt x="4561" y="2525"/>
                </a:lnTo>
              </a:path>
            </a:pathLst>
          </a:custGeom>
          <a:noFill/>
          <a:ln w="57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20"/>
          <p:cNvSpPr/>
          <p:nvPr/>
        </p:nvSpPr>
        <p:spPr>
          <a:xfrm>
            <a:off x="1143720" y="58993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21"/>
          <p:cNvSpPr/>
          <p:nvPr/>
        </p:nvSpPr>
        <p:spPr>
          <a:xfrm>
            <a:off x="1143720" y="54943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2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22"/>
          <p:cNvSpPr/>
          <p:nvPr/>
        </p:nvSpPr>
        <p:spPr>
          <a:xfrm>
            <a:off x="1143720" y="507996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23"/>
          <p:cNvSpPr/>
          <p:nvPr/>
        </p:nvSpPr>
        <p:spPr>
          <a:xfrm>
            <a:off x="1143720" y="46735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24"/>
          <p:cNvSpPr/>
          <p:nvPr/>
        </p:nvSpPr>
        <p:spPr>
          <a:xfrm>
            <a:off x="1143720" y="42703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0.8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25"/>
          <p:cNvSpPr/>
          <p:nvPr/>
        </p:nvSpPr>
        <p:spPr>
          <a:xfrm>
            <a:off x="1143720" y="38527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0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26"/>
          <p:cNvSpPr/>
          <p:nvPr/>
        </p:nvSpPr>
        <p:spPr>
          <a:xfrm>
            <a:off x="1114920" y="344952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2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27"/>
          <p:cNvSpPr/>
          <p:nvPr/>
        </p:nvSpPr>
        <p:spPr>
          <a:xfrm>
            <a:off x="1143720" y="304020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4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8"/>
          <p:cNvSpPr/>
          <p:nvPr/>
        </p:nvSpPr>
        <p:spPr>
          <a:xfrm>
            <a:off x="1143720" y="262404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6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9"/>
          <p:cNvSpPr/>
          <p:nvPr/>
        </p:nvSpPr>
        <p:spPr>
          <a:xfrm>
            <a:off x="1219680" y="2220840"/>
            <a:ext cx="35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1.8%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30"/>
          <p:cNvSpPr/>
          <p:nvPr/>
        </p:nvSpPr>
        <p:spPr>
          <a:xfrm>
            <a:off x="1719720" y="608184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31"/>
          <p:cNvSpPr/>
          <p:nvPr/>
        </p:nvSpPr>
        <p:spPr>
          <a:xfrm>
            <a:off x="20095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32"/>
          <p:cNvSpPr/>
          <p:nvPr/>
        </p:nvSpPr>
        <p:spPr>
          <a:xfrm>
            <a:off x="23904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33"/>
          <p:cNvSpPr/>
          <p:nvPr/>
        </p:nvSpPr>
        <p:spPr>
          <a:xfrm>
            <a:off x="277164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Rectangle 34"/>
          <p:cNvSpPr/>
          <p:nvPr/>
        </p:nvSpPr>
        <p:spPr>
          <a:xfrm>
            <a:off x="31525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Rectangle 35"/>
          <p:cNvSpPr/>
          <p:nvPr/>
        </p:nvSpPr>
        <p:spPr>
          <a:xfrm>
            <a:off x="35334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Rectangle 36"/>
          <p:cNvSpPr/>
          <p:nvPr/>
        </p:nvSpPr>
        <p:spPr>
          <a:xfrm>
            <a:off x="3958920" y="61009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37"/>
          <p:cNvSpPr/>
          <p:nvPr/>
        </p:nvSpPr>
        <p:spPr>
          <a:xfrm>
            <a:off x="4371840" y="608472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38"/>
          <p:cNvSpPr/>
          <p:nvPr/>
        </p:nvSpPr>
        <p:spPr>
          <a:xfrm>
            <a:off x="47527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4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Rectangle 39"/>
          <p:cNvSpPr/>
          <p:nvPr/>
        </p:nvSpPr>
        <p:spPr>
          <a:xfrm>
            <a:off x="51336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Rectangle 40"/>
          <p:cNvSpPr/>
          <p:nvPr/>
        </p:nvSpPr>
        <p:spPr>
          <a:xfrm>
            <a:off x="551484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5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41"/>
          <p:cNvSpPr/>
          <p:nvPr/>
        </p:nvSpPr>
        <p:spPr>
          <a:xfrm>
            <a:off x="589572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42"/>
          <p:cNvSpPr/>
          <p:nvPr/>
        </p:nvSpPr>
        <p:spPr>
          <a:xfrm>
            <a:off x="6276600" y="60818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6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43"/>
          <p:cNvSpPr/>
          <p:nvPr/>
        </p:nvSpPr>
        <p:spPr>
          <a:xfrm rot="16200000">
            <a:off x="560880" y="5722920"/>
            <a:ext cx="371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irs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44"/>
          <p:cNvSpPr/>
          <p:nvPr/>
        </p:nvSpPr>
        <p:spPr>
          <a:xfrm rot="16200000">
            <a:off x="903960" y="551592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45"/>
          <p:cNvSpPr/>
          <p:nvPr/>
        </p:nvSpPr>
        <p:spPr>
          <a:xfrm rot="16200000">
            <a:off x="-132120" y="4579200"/>
            <a:ext cx="1759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time depend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46"/>
          <p:cNvSpPr/>
          <p:nvPr/>
        </p:nvSpPr>
        <p:spPr>
          <a:xfrm>
            <a:off x="1671480" y="6040440"/>
            <a:ext cx="6551640" cy="1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47"/>
          <p:cNvSpPr/>
          <p:nvPr/>
        </p:nvSpPr>
        <p:spPr>
          <a:xfrm flipV="1">
            <a:off x="206676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Line 48"/>
          <p:cNvSpPr/>
          <p:nvPr/>
        </p:nvSpPr>
        <p:spPr>
          <a:xfrm flipV="1">
            <a:off x="2463840" y="6029280"/>
            <a:ext cx="648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Line 49"/>
          <p:cNvSpPr/>
          <p:nvPr/>
        </p:nvSpPr>
        <p:spPr>
          <a:xfrm flipV="1">
            <a:off x="284940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Line 50"/>
          <p:cNvSpPr/>
          <p:nvPr/>
        </p:nvSpPr>
        <p:spPr>
          <a:xfrm flipV="1">
            <a:off x="324648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51"/>
          <p:cNvSpPr/>
          <p:nvPr/>
        </p:nvSpPr>
        <p:spPr>
          <a:xfrm flipV="1">
            <a:off x="364176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Line 52"/>
          <p:cNvSpPr/>
          <p:nvPr/>
        </p:nvSpPr>
        <p:spPr>
          <a:xfrm flipV="1">
            <a:off x="404028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53"/>
          <p:cNvSpPr/>
          <p:nvPr/>
        </p:nvSpPr>
        <p:spPr>
          <a:xfrm flipV="1">
            <a:off x="443700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Line 54"/>
          <p:cNvSpPr/>
          <p:nvPr/>
        </p:nvSpPr>
        <p:spPr>
          <a:xfrm flipV="1">
            <a:off x="482112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Line 55"/>
          <p:cNvSpPr/>
          <p:nvPr/>
        </p:nvSpPr>
        <p:spPr>
          <a:xfrm flipV="1">
            <a:off x="521820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Line 56"/>
          <p:cNvSpPr/>
          <p:nvPr/>
        </p:nvSpPr>
        <p:spPr>
          <a:xfrm flipV="1">
            <a:off x="5616720" y="6029280"/>
            <a:ext cx="144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Line 57"/>
          <p:cNvSpPr/>
          <p:nvPr/>
        </p:nvSpPr>
        <p:spPr>
          <a:xfrm flipV="1">
            <a:off x="601020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Line 58"/>
          <p:cNvSpPr/>
          <p:nvPr/>
        </p:nvSpPr>
        <p:spPr>
          <a:xfrm flipV="1">
            <a:off x="6394320" y="6029280"/>
            <a:ext cx="1800" cy="55440"/>
          </a:xfrm>
          <a:prstGeom prst="line">
            <a:avLst/>
          </a:prstGeom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Freeform 59"/>
          <p:cNvSpPr/>
          <p:nvPr/>
        </p:nvSpPr>
        <p:spPr>
          <a:xfrm>
            <a:off x="1698480" y="2316240"/>
            <a:ext cx="6443640" cy="3711600"/>
          </a:xfrm>
          <a:custGeom>
            <a:avLst/>
            <a:gdLst>
              <a:gd name="textAreaLeft" fmla="*/ 0 w 6443640"/>
              <a:gd name="textAreaRight" fmla="*/ 6444000 w 6443640"/>
              <a:gd name="textAreaTop" fmla="*/ 0 h 3711600"/>
              <a:gd name="textAreaBottom" fmla="*/ 3711960 h 3711600"/>
            </a:gdLst>
            <a:ahLst/>
            <a:rect l="textAreaLeft" t="textAreaTop" r="textAreaRight" b="textAreaBottom"/>
            <a:pathLst>
              <a:path w="4164" h="2166">
                <a:moveTo>
                  <a:pt x="0" y="2103"/>
                </a:moveTo>
                <a:lnTo>
                  <a:pt x="67" y="2155"/>
                </a:lnTo>
                <a:lnTo>
                  <a:pt x="122" y="2155"/>
                </a:lnTo>
                <a:lnTo>
                  <a:pt x="189" y="2166"/>
                </a:lnTo>
                <a:lnTo>
                  <a:pt x="256" y="2134"/>
                </a:lnTo>
                <a:lnTo>
                  <a:pt x="323" y="2134"/>
                </a:lnTo>
                <a:lnTo>
                  <a:pt x="378" y="2134"/>
                </a:lnTo>
                <a:lnTo>
                  <a:pt x="445" y="2062"/>
                </a:lnTo>
                <a:lnTo>
                  <a:pt x="512" y="1886"/>
                </a:lnTo>
                <a:lnTo>
                  <a:pt x="579" y="1616"/>
                </a:lnTo>
                <a:lnTo>
                  <a:pt x="634" y="1368"/>
                </a:lnTo>
                <a:lnTo>
                  <a:pt x="701" y="332"/>
                </a:lnTo>
                <a:lnTo>
                  <a:pt x="768" y="269"/>
                </a:lnTo>
                <a:lnTo>
                  <a:pt x="835" y="0"/>
                </a:lnTo>
                <a:lnTo>
                  <a:pt x="891" y="1015"/>
                </a:lnTo>
                <a:lnTo>
                  <a:pt x="957" y="1295"/>
                </a:lnTo>
                <a:lnTo>
                  <a:pt x="1024" y="1482"/>
                </a:lnTo>
                <a:lnTo>
                  <a:pt x="1091" y="1689"/>
                </a:lnTo>
                <a:lnTo>
                  <a:pt x="1158" y="1824"/>
                </a:lnTo>
                <a:lnTo>
                  <a:pt x="1214" y="1855"/>
                </a:lnTo>
                <a:lnTo>
                  <a:pt x="1280" y="1668"/>
                </a:lnTo>
                <a:lnTo>
                  <a:pt x="1347" y="1958"/>
                </a:lnTo>
                <a:lnTo>
                  <a:pt x="1414" y="2041"/>
                </a:lnTo>
                <a:lnTo>
                  <a:pt x="1470" y="1958"/>
                </a:lnTo>
                <a:lnTo>
                  <a:pt x="1536" y="2124"/>
                </a:lnTo>
                <a:lnTo>
                  <a:pt x="1603" y="1958"/>
                </a:lnTo>
                <a:lnTo>
                  <a:pt x="1670" y="2103"/>
                </a:lnTo>
                <a:lnTo>
                  <a:pt x="1726" y="2083"/>
                </a:lnTo>
                <a:lnTo>
                  <a:pt x="1793" y="2114"/>
                </a:lnTo>
                <a:lnTo>
                  <a:pt x="1859" y="2103"/>
                </a:lnTo>
                <a:lnTo>
                  <a:pt x="1926" y="2062"/>
                </a:lnTo>
                <a:lnTo>
                  <a:pt x="1982" y="2134"/>
                </a:lnTo>
                <a:lnTo>
                  <a:pt x="2049" y="2114"/>
                </a:lnTo>
                <a:lnTo>
                  <a:pt x="2116" y="2124"/>
                </a:lnTo>
                <a:lnTo>
                  <a:pt x="2182" y="2134"/>
                </a:lnTo>
                <a:lnTo>
                  <a:pt x="2238" y="2103"/>
                </a:lnTo>
                <a:lnTo>
                  <a:pt x="2305" y="2145"/>
                </a:lnTo>
                <a:lnTo>
                  <a:pt x="2372" y="2145"/>
                </a:lnTo>
                <a:lnTo>
                  <a:pt x="2438" y="2166"/>
                </a:lnTo>
                <a:lnTo>
                  <a:pt x="2494" y="2134"/>
                </a:lnTo>
                <a:lnTo>
                  <a:pt x="2561" y="2114"/>
                </a:lnTo>
                <a:lnTo>
                  <a:pt x="2628" y="2155"/>
                </a:lnTo>
                <a:lnTo>
                  <a:pt x="2695" y="2166"/>
                </a:lnTo>
                <a:lnTo>
                  <a:pt x="2750" y="2145"/>
                </a:lnTo>
                <a:lnTo>
                  <a:pt x="2817" y="2166"/>
                </a:lnTo>
                <a:lnTo>
                  <a:pt x="2884" y="2166"/>
                </a:lnTo>
                <a:lnTo>
                  <a:pt x="2951" y="2155"/>
                </a:lnTo>
                <a:lnTo>
                  <a:pt x="3006" y="2166"/>
                </a:lnTo>
                <a:lnTo>
                  <a:pt x="3073" y="2166"/>
                </a:lnTo>
                <a:lnTo>
                  <a:pt x="3140" y="2145"/>
                </a:lnTo>
                <a:lnTo>
                  <a:pt x="3207" y="2134"/>
                </a:lnTo>
                <a:lnTo>
                  <a:pt x="3274" y="2155"/>
                </a:lnTo>
                <a:lnTo>
                  <a:pt x="3329" y="2166"/>
                </a:lnTo>
                <a:lnTo>
                  <a:pt x="3396" y="2166"/>
                </a:lnTo>
                <a:lnTo>
                  <a:pt x="3463" y="2155"/>
                </a:lnTo>
                <a:lnTo>
                  <a:pt x="3530" y="2155"/>
                </a:lnTo>
                <a:lnTo>
                  <a:pt x="3585" y="2166"/>
                </a:lnTo>
                <a:lnTo>
                  <a:pt x="3652" y="2166"/>
                </a:lnTo>
                <a:lnTo>
                  <a:pt x="3719" y="2155"/>
                </a:lnTo>
                <a:lnTo>
                  <a:pt x="3786" y="2155"/>
                </a:lnTo>
                <a:lnTo>
                  <a:pt x="3841" y="2166"/>
                </a:lnTo>
                <a:lnTo>
                  <a:pt x="3908" y="2166"/>
                </a:lnTo>
                <a:lnTo>
                  <a:pt x="3975" y="2166"/>
                </a:lnTo>
                <a:lnTo>
                  <a:pt x="4042" y="2166"/>
                </a:lnTo>
                <a:lnTo>
                  <a:pt x="4098" y="2166"/>
                </a:lnTo>
                <a:lnTo>
                  <a:pt x="4164" y="2166"/>
                </a:lnTo>
              </a:path>
            </a:pathLst>
          </a:custGeom>
          <a:noFill/>
          <a:ln w="52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60"/>
          <p:cNvSpPr/>
          <p:nvPr/>
        </p:nvSpPr>
        <p:spPr>
          <a:xfrm>
            <a:off x="3231720" y="25210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H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61"/>
          <p:cNvSpPr/>
          <p:nvPr/>
        </p:nvSpPr>
        <p:spPr>
          <a:xfrm>
            <a:off x="3706920" y="2749680"/>
            <a:ext cx="140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Tahoma"/>
              </a:rPr>
              <a:t>ALCOH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62"/>
          <p:cNvSpPr/>
          <p:nvPr/>
        </p:nvSpPr>
        <p:spPr>
          <a:xfrm flipH="1">
            <a:off x="3087720" y="3052800"/>
            <a:ext cx="853920" cy="674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63"/>
          <p:cNvSpPr/>
          <p:nvPr/>
        </p:nvSpPr>
        <p:spPr>
          <a:xfrm flipH="1">
            <a:off x="2765160" y="2766960"/>
            <a:ext cx="662040" cy="5796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Freeform 64"/>
          <p:cNvSpPr/>
          <p:nvPr/>
        </p:nvSpPr>
        <p:spPr>
          <a:xfrm>
            <a:off x="1708200" y="2930400"/>
            <a:ext cx="6877080" cy="3070440"/>
          </a:xfrm>
          <a:custGeom>
            <a:avLst/>
            <a:gdLst>
              <a:gd name="textAreaLeft" fmla="*/ 0 w 6877080"/>
              <a:gd name="textAreaRight" fmla="*/ 6877440 w 6877080"/>
              <a:gd name="textAreaTop" fmla="*/ 0 h 3070440"/>
              <a:gd name="textAreaBottom" fmla="*/ 3070800 h 3070440"/>
            </a:gdLst>
            <a:ahLst/>
            <a:rect l="textAreaLeft" t="textAreaTop" r="textAreaRight" b="textAreaBottom"/>
            <a:pathLst>
              <a:path w="4419" h="2374">
                <a:moveTo>
                  <a:pt x="0" y="2374"/>
                </a:moveTo>
                <a:lnTo>
                  <a:pt x="62" y="2374"/>
                </a:lnTo>
                <a:lnTo>
                  <a:pt x="123" y="2365"/>
                </a:lnTo>
                <a:lnTo>
                  <a:pt x="185" y="2365"/>
                </a:lnTo>
                <a:lnTo>
                  <a:pt x="247" y="2339"/>
                </a:lnTo>
                <a:lnTo>
                  <a:pt x="309" y="2330"/>
                </a:lnTo>
                <a:lnTo>
                  <a:pt x="380" y="2312"/>
                </a:lnTo>
                <a:lnTo>
                  <a:pt x="442" y="2206"/>
                </a:lnTo>
                <a:lnTo>
                  <a:pt x="504" y="2206"/>
                </a:lnTo>
                <a:lnTo>
                  <a:pt x="565" y="2136"/>
                </a:lnTo>
                <a:lnTo>
                  <a:pt x="627" y="1844"/>
                </a:lnTo>
                <a:lnTo>
                  <a:pt x="689" y="1368"/>
                </a:lnTo>
                <a:lnTo>
                  <a:pt x="751" y="873"/>
                </a:lnTo>
                <a:lnTo>
                  <a:pt x="822" y="0"/>
                </a:lnTo>
                <a:lnTo>
                  <a:pt x="884" y="803"/>
                </a:lnTo>
                <a:lnTo>
                  <a:pt x="945" y="414"/>
                </a:lnTo>
                <a:lnTo>
                  <a:pt x="1007" y="856"/>
                </a:lnTo>
                <a:lnTo>
                  <a:pt x="1069" y="962"/>
                </a:lnTo>
                <a:lnTo>
                  <a:pt x="1131" y="1174"/>
                </a:lnTo>
                <a:lnTo>
                  <a:pt x="1202" y="1226"/>
                </a:lnTo>
                <a:lnTo>
                  <a:pt x="1264" y="53"/>
                </a:lnTo>
                <a:lnTo>
                  <a:pt x="1325" y="1553"/>
                </a:lnTo>
                <a:lnTo>
                  <a:pt x="1387" y="1474"/>
                </a:lnTo>
                <a:lnTo>
                  <a:pt x="1449" y="1377"/>
                </a:lnTo>
                <a:lnTo>
                  <a:pt x="1511" y="1650"/>
                </a:lnTo>
                <a:lnTo>
                  <a:pt x="1573" y="132"/>
                </a:lnTo>
                <a:lnTo>
                  <a:pt x="1644" y="1580"/>
                </a:lnTo>
                <a:lnTo>
                  <a:pt x="1706" y="1712"/>
                </a:lnTo>
                <a:lnTo>
                  <a:pt x="1767" y="1659"/>
                </a:lnTo>
                <a:lnTo>
                  <a:pt x="1829" y="1703"/>
                </a:lnTo>
                <a:lnTo>
                  <a:pt x="1891" y="723"/>
                </a:lnTo>
                <a:lnTo>
                  <a:pt x="1953" y="1394"/>
                </a:lnTo>
                <a:lnTo>
                  <a:pt x="2024" y="1500"/>
                </a:lnTo>
                <a:lnTo>
                  <a:pt x="2086" y="1482"/>
                </a:lnTo>
                <a:lnTo>
                  <a:pt x="2147" y="1518"/>
                </a:lnTo>
                <a:lnTo>
                  <a:pt x="2209" y="820"/>
                </a:lnTo>
                <a:lnTo>
                  <a:pt x="2271" y="1465"/>
                </a:lnTo>
                <a:lnTo>
                  <a:pt x="2333" y="1288"/>
                </a:lnTo>
                <a:lnTo>
                  <a:pt x="2395" y="1500"/>
                </a:lnTo>
                <a:lnTo>
                  <a:pt x="2466" y="1474"/>
                </a:lnTo>
                <a:lnTo>
                  <a:pt x="2528" y="1041"/>
                </a:lnTo>
                <a:lnTo>
                  <a:pt x="2589" y="1279"/>
                </a:lnTo>
                <a:lnTo>
                  <a:pt x="2651" y="1597"/>
                </a:lnTo>
                <a:lnTo>
                  <a:pt x="2713" y="1527"/>
                </a:lnTo>
                <a:lnTo>
                  <a:pt x="2775" y="1430"/>
                </a:lnTo>
                <a:lnTo>
                  <a:pt x="2846" y="1094"/>
                </a:lnTo>
                <a:lnTo>
                  <a:pt x="2908" y="1756"/>
                </a:lnTo>
                <a:lnTo>
                  <a:pt x="2969" y="1350"/>
                </a:lnTo>
                <a:lnTo>
                  <a:pt x="3031" y="1235"/>
                </a:lnTo>
                <a:lnTo>
                  <a:pt x="3093" y="1553"/>
                </a:lnTo>
                <a:lnTo>
                  <a:pt x="3155" y="1306"/>
                </a:lnTo>
                <a:lnTo>
                  <a:pt x="3217" y="1986"/>
                </a:lnTo>
                <a:lnTo>
                  <a:pt x="3288" y="1580"/>
                </a:lnTo>
                <a:lnTo>
                  <a:pt x="3350" y="1950"/>
                </a:lnTo>
                <a:lnTo>
                  <a:pt x="3411" y="1447"/>
                </a:lnTo>
                <a:lnTo>
                  <a:pt x="3473" y="1271"/>
                </a:lnTo>
                <a:lnTo>
                  <a:pt x="3535" y="1518"/>
                </a:lnTo>
                <a:lnTo>
                  <a:pt x="3597" y="1535"/>
                </a:lnTo>
                <a:lnTo>
                  <a:pt x="3668" y="1385"/>
                </a:lnTo>
                <a:lnTo>
                  <a:pt x="3730" y="1730"/>
                </a:lnTo>
                <a:lnTo>
                  <a:pt x="3791" y="1456"/>
                </a:lnTo>
                <a:lnTo>
                  <a:pt x="3853" y="1836"/>
                </a:lnTo>
                <a:lnTo>
                  <a:pt x="3915" y="2047"/>
                </a:lnTo>
                <a:lnTo>
                  <a:pt x="3977" y="1853"/>
                </a:lnTo>
                <a:lnTo>
                  <a:pt x="4039" y="1924"/>
                </a:lnTo>
                <a:lnTo>
                  <a:pt x="4110" y="1836"/>
                </a:lnTo>
                <a:lnTo>
                  <a:pt x="4171" y="1836"/>
                </a:lnTo>
                <a:lnTo>
                  <a:pt x="4233" y="1765"/>
                </a:lnTo>
                <a:lnTo>
                  <a:pt x="4295" y="1897"/>
                </a:lnTo>
                <a:lnTo>
                  <a:pt x="4357" y="2003"/>
                </a:lnTo>
                <a:lnTo>
                  <a:pt x="4419" y="2091"/>
                </a:ln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Text Box 65"/>
          <p:cNvSpPr/>
          <p:nvPr/>
        </p:nvSpPr>
        <p:spPr>
          <a:xfrm>
            <a:off x="1697040" y="2216160"/>
            <a:ext cx="14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TOBAC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66"/>
          <p:cNvSpPr/>
          <p:nvPr/>
        </p:nvSpPr>
        <p:spPr>
          <a:xfrm>
            <a:off x="2071800" y="2357280"/>
            <a:ext cx="680760" cy="1446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70"/>
          <p:cNvSpPr/>
          <p:nvPr/>
        </p:nvSpPr>
        <p:spPr>
          <a:xfrm>
            <a:off x="304920" y="193680"/>
            <a:ext cx="883908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Зависност од д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о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а је развојна болест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ahoma"/>
              </a:rPr>
              <a:t> са високом преваленцом код адолесцен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Ади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к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ц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ија је к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омпле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ксан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б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х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еј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виорал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н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,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еуробиоло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шк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,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и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г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енет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ски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Osaka"/>
              </a:rPr>
              <a:t> </a:t>
            </a:r>
            <a:r>
              <a:rPr b="1" lang="sr-Latn-CS" sz="2800" spc="-1" strike="noStrike">
                <a:solidFill>
                  <a:srgbClr val="ffff00"/>
                </a:solidFill>
                <a:latin typeface="Tahoma"/>
              </a:rPr>
              <a:t>поремећа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9"/>
          <p:cNvSpPr/>
          <p:nvPr/>
        </p:nvSpPr>
        <p:spPr>
          <a:xfrm>
            <a:off x="46440" y="2000160"/>
            <a:ext cx="255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NVIRONMENT &amp; DRU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EXPOS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10"/>
          <p:cNvSpPr/>
          <p:nvPr/>
        </p:nvSpPr>
        <p:spPr>
          <a:xfrm>
            <a:off x="4648320" y="1981080"/>
            <a:ext cx="197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YNAPTIC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PLASTIC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1"/>
          <p:cNvSpPr/>
          <p:nvPr/>
        </p:nvSpPr>
        <p:spPr>
          <a:xfrm>
            <a:off x="7605720" y="1981080"/>
            <a:ext cx="1140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BRAI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CHAN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2"/>
          <p:cNvSpPr/>
          <p:nvPr/>
        </p:nvSpPr>
        <p:spPr>
          <a:xfrm>
            <a:off x="2943000" y="1981080"/>
            <a:ext cx="1198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ENETIC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VARIA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Picture 14" descr="BallAndStick.jpg">
            <a:hlinkClick r:id="rId1"/>
          </p:cNvPr>
          <p:cNvPicPr/>
          <p:nvPr/>
        </p:nvPicPr>
        <p:blipFill>
          <a:blip r:embed="rId2"/>
          <a:srcRect l="16000" t="0" r="16000" b="0"/>
          <a:stretch/>
        </p:blipFill>
        <p:spPr>
          <a:xfrm>
            <a:off x="2797200" y="2895480"/>
            <a:ext cx="1319040" cy="213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40" name="AutoShape 15"/>
          <p:cNvSpPr/>
          <p:nvPr/>
        </p:nvSpPr>
        <p:spPr>
          <a:xfrm>
            <a:off x="2416320" y="342900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AutoShape 17"/>
          <p:cNvSpPr/>
          <p:nvPr/>
        </p:nvSpPr>
        <p:spPr>
          <a:xfrm>
            <a:off x="4092480" y="3505320"/>
            <a:ext cx="457200" cy="228600"/>
          </a:xfrm>
          <a:custGeom>
            <a:avLst/>
            <a:gdLst>
              <a:gd name="textAreaLeft" fmla="*/ 568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AutoShape 25"/>
          <p:cNvSpPr/>
          <p:nvPr/>
        </p:nvSpPr>
        <p:spPr>
          <a:xfrm flipV="1">
            <a:off x="7978680" y="2743200"/>
            <a:ext cx="685800" cy="380880"/>
          </a:xfrm>
          <a:custGeom>
            <a:avLst/>
            <a:gdLst>
              <a:gd name="textAreaLeft" fmla="*/ 0 w 685800"/>
              <a:gd name="textAreaRight" fmla="*/ 587880 w 685800"/>
              <a:gd name="textAreaTop" fmla="*/ 254520 h 380880"/>
              <a:gd name="textAreaBottom" fmla="*/ 381600 h 3808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7" descr=""/>
          <p:cNvPicPr/>
          <p:nvPr/>
        </p:nvPicPr>
        <p:blipFill>
          <a:blip r:embed="rId3"/>
          <a:stretch/>
        </p:blipFill>
        <p:spPr>
          <a:xfrm>
            <a:off x="7369200" y="3200400"/>
            <a:ext cx="1698480" cy="1905120"/>
          </a:xfrm>
          <a:prstGeom prst="rect">
            <a:avLst/>
          </a:prstGeom>
          <a:ln w="0">
            <a:noFill/>
          </a:ln>
        </p:spPr>
      </p:pic>
      <p:grpSp>
        <p:nvGrpSpPr>
          <p:cNvPr id="444" name="Group 70"/>
          <p:cNvGrpSpPr/>
          <p:nvPr/>
        </p:nvGrpSpPr>
        <p:grpSpPr>
          <a:xfrm>
            <a:off x="4549680" y="2743200"/>
            <a:ext cx="2590560" cy="2362320"/>
            <a:chOff x="4549680" y="2743200"/>
            <a:chExt cx="2590560" cy="2362320"/>
          </a:xfrm>
        </p:grpSpPr>
        <p:pic>
          <p:nvPicPr>
            <p:cNvPr id="445" name="Picture 33" descr=""/>
            <p:cNvPicPr/>
            <p:nvPr/>
          </p:nvPicPr>
          <p:blipFill>
            <a:blip r:embed="rId4"/>
            <a:srcRect l="11339" t="10247" r="62828" b="7988"/>
            <a:stretch/>
          </p:blipFill>
          <p:spPr>
            <a:xfrm>
              <a:off x="4549680" y="2743200"/>
              <a:ext cx="737640" cy="236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34" descr=""/>
            <p:cNvPicPr/>
            <p:nvPr/>
          </p:nvPicPr>
          <p:blipFill>
            <a:blip r:embed="rId5"/>
            <a:stretch/>
          </p:blipFill>
          <p:spPr>
            <a:xfrm>
              <a:off x="5225040" y="2743200"/>
              <a:ext cx="1915200" cy="235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Line 53"/>
          <p:cNvSpPr/>
          <p:nvPr/>
        </p:nvSpPr>
        <p:spPr>
          <a:xfrm>
            <a:off x="533520" y="1219320"/>
            <a:ext cx="80769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8" name="Object 66"/>
          <p:cNvGraphicFramePr/>
          <p:nvPr/>
        </p:nvGraphicFramePr>
        <p:xfrm>
          <a:off x="54000" y="2819520"/>
          <a:ext cx="2305080" cy="2130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9" name="Object 6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000" y="2819520"/>
                    <a:ext cx="230508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0" name=""/>
          <p:cNvSpPr txBox="1"/>
          <p:nvPr/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828440" y="1904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Критеријуми за зависност од ПАС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ихејвиорални одговор је комплексан али је углавном повезан са краткотрајним и дуготрајним ефектима дрога у моз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ритеријуми за зависност од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АС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нажна жеља(компулзија),немогућност контроле,апстиненцијална криза-синдром,толеранција,прогресивно занемаривање алтернативних задовољстава и интересовања,настављање са коришћењем упркос јасним доказима о штетним последицам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6"/>
          <p:cNvSpPr/>
          <p:nvPr/>
        </p:nvSpPr>
        <p:spPr>
          <a:xfrm>
            <a:off x="914400" y="304920"/>
            <a:ext cx="76201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914400" y="2286000"/>
            <a:ext cx="7620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Средњи мозак је регион који садржи много ареа важних за зависност од ПАС,обзиром да су ови региони укључени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мотивацију и учењ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о  стимулусима из окружења и последичном понашању које води ка задовољств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Важан је за  понашање које омогућава одржавање живота- као што је узимање хране и во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5e26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Међумозак је комплекснији и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“neuroimaging”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ехнике показују да се активира под дејством стимулуса који проузрокују “жудњу” код зави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e26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Комуникација у мозгу се одвија путем ћелија или неурона.Хемијски месинџери преносе поруку од пресинаптичког неурона до постсинаптичког неурон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5e26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еки од добро проучених неуротрансмитера који су релевантни за деловање ПАС су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допамин,серотонин,норадреналин,ГАБ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глутамат и ендогени опиои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Психоактивне супстанце су у стању да имитирају ефекте природних ендогених неуротрансмитера,или да се умешају у нормалну ф-ју мозга блокирајући је,или да ометају нормално складиштење,ослобађајући или уклањајући неуротрансмите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Један од важних механизама којим ПАС делују је блокирање преузимања неуротрансмитера након ослобађања у пресинаптичко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ј пукот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Content Placeholder 1" descr=""/>
          <p:cNvPicPr/>
          <p:nvPr/>
        </p:nvPicPr>
        <p:blipFill>
          <a:blip r:embed="rId1"/>
          <a:stretch/>
        </p:blipFill>
        <p:spPr>
          <a:xfrm>
            <a:off x="3124080" y="5181480"/>
            <a:ext cx="28814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Етиологија/патогенез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тоји више образаца коришћења психоактивних суп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танц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Експериментално коришћење, да би се “истражили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ефекти, што се често дешава међу младима посебно ка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у у питању канабис и испарљиве супстанц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итуационо коришћење је коришћење дрога повеза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а одређеним ситуацијама (забаве, рејв журке, итд.) и т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у најчешће стимуланси и халуциноге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Механизми у мозгу:</a:t>
            </a:r>
            <a:br>
              <a:rPr sz="3000"/>
            </a:b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неуробиологија и неуроанатомиј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862360"/>
            <a:ext cx="807732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Блокадом преузимања ремети се нормална ф-ја неуротрансми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АС се тада вежу и појачавају ф-ју рецептора познатих као агон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Различите ПАС делују на различите начине у мозгу,производећи различите ефекте.Везују се за различите типове рецептора,и могу повећати или умањити активност неурона путем неколико мех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сихоактивне супстанце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које се </a:t>
            </a:r>
            <a:r>
              <a:rPr b="1" lang="sr-CS" sz="3000" spc="-1" strike="noStrike">
                <a:solidFill>
                  <a:srgbClr val="ffffff"/>
                </a:solidFill>
                <a:latin typeface="Arial"/>
              </a:rPr>
              <a:t>најче-шће злоупотребљавају</a:t>
            </a:r>
            <a:r>
              <a:rPr b="1" lang="sr-Latn-C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сихоактивне супстанц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Депресор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алкохол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седативи/хипно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Инхаланс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и(испарљиви растварач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Стимуланс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кокаин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амфетамин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ecstas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Опиоид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морфин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хероин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опију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Халуциноген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CP,LSD,DET,ДOM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Канабиноиди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:хашиш,мариху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Хероин-својств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синтетски дериват морфина, настаје из мака пореклом из Афганистан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СНАЖНА, ХЕРОЈСКА, ТВРДА дрога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стаје ацетилирањем морф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ја варира од беле (најчистији), преко боје слонове кости до смеђе.Састоји се од ситних кристала који личи на шећер у пра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Херои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МИРИСА, ГОРКОГ УКУСА, хидросолуби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ЈАДИКТИВНИЈА ПАС, веома брзо доводи до психичке и физичке зависност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терапију је уведен као лек 1898 год. за купирање астматичне кри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лични хероин је помешан са шећером, скробом, млеком у праху, стрихнином, или разним отровним супстанцам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исници никада не знају његову јачину, ни шта у себи садржи, те постоји велики ризик од предозирања и смр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900" spc="-1" strike="noStrike">
                <a:solidFill>
                  <a:srgbClr val="330066"/>
                </a:solidFill>
                <a:latin typeface="Arial"/>
              </a:rPr>
              <a:t>ХЕРОИ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 организам се УНОС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1.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 (најјачи и најбржи ефекат)- тренутно настаје обамрлост, безбрижност, ослобађање од страха 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ШМРКАВАЊЕМ (брзо ресорбује са носне слузнице=, максимални ефекти после 15 минута.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ШЕЊЕМ -”ХВАТАЊЕ ЗМАЈА”- хероин се ставља на станиол и загрева са доње стране пламеном, а дим удише помоћу цевчице од пластике. Маx.ефекат после 15 минута.</a:t>
            </a:r>
            <a:br>
              <a:rPr sz="2400"/>
            </a:b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ХАЛАЦИЈОМ - (у виду праха или дим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Ефекти након уношењ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 уношењу у организам наступа: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. Снажно ЕУФОРИЧКО дејств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. снажно АНАЛГЕТИЧКО дејств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. НАРКОТИЧК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4. ХИПНОТИЧКО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5. снажан АНТИТУСИК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6. осећање ЗАДОВОЉСТВА, ПРИЈАТНОСТИ, БЕЗБРИЖНОСТИ, ДОБРОГ РАСПОЛОЖ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Ефекти Херои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Ефекти на организам манифестују се у 3 фазе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фаза - УДАРНОГ дејства, “ФЛАСХ”-траје кратко-неколико минута: ознојеност, црвене оћи, миоза, топлина у стомаку, презнојавање, дремљивост, успореност,поремећај пажње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фаза ЕУФОРИЧНО-МЕДИТАТИВНА, 3-4 сата: смиреност, опуштеност, релаксација мишића, смањење напетости, страха, БЕЗБРИЖНОСТ, БЛАГОСТАЊЕ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 фаза- ХИПНОТИЧКА: нерасположење, потиштеност,депресивност, осећање кривице, суицидалност. Неодољива потреба за поновним узимањем дроге.</a:t>
            </a:r>
            <a:br>
              <a:rPr sz="2000"/>
            </a:br>
            <a:r>
              <a:rPr b="0" lang="sr-CS" sz="2000" spc="-1" strike="noStrike">
                <a:solidFill>
                  <a:srgbClr val="ffffff"/>
                </a:solidFill>
                <a:latin typeface="Arial"/>
              </a:rPr>
              <a:t>Током стања интоксикације доминира ЕУФОРИЈА, а након престанка ДЕПРЕСИВНО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Деловање.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еко ОПИЈАТСКИХ РЕЦЕПТОРА, који се могу поделити у 5 група: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МИ”- од утицаја су на аналгезију. Они посебно дају еуфорију при апсорпцији и депресију при елиминацији, апстиненцијалне симптоме и стварају зависност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КАПА”-дају аналгезију, седацију и појачану диурезу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ДЕЛТА”- дају само аналгезију. Накнадно су откривене још две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групе рецептора: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СИГМА”- дају аналгезију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“ОРПХАН” – дају аналгез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Апстиненцијални синдр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ПРВА ФАЗА: после 8-12 сати од последњег узимања:немир, напетост, несаница, раздражљивост, губитак апетита,нес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ДРУГА ФАЗА: после 16-24х:дрхтавица, сузење, зевање, ринореја, презнојавање, повраћање, дијареа, болови у стомаку, костима, зглобовима, слабост, малаксалост, несаница,најеженост коже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Апстиненцијални синдр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ЈИНТЕНЗИВНИЈЕ ТЕГОБЕ после 36-72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ТРЕЋА ФАЗА почиње крајем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дана: интензивирање претходних тегоба, са јачим мишићним боловима,стално је у покрету /најчешће захтева прекид терапије, рецидив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Етиологиј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523880" y="1523880"/>
            <a:ext cx="70106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креативно коришћење може бити везано за одређе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, обично краћи, период у животу (на пример, по завршетку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удија итд.), али врло лако прелази у за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висничко коришћењ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литоксикоманија је коришћење различитих врс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 дрога, при чему се неке користе да би потенцирал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јство других или да би се избегли негативни ефек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осле коришћења неких супстанц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Зависност је континуирано коришћење дрога уз развој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изичке и психичке зависности. Тежина зависност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цењује се на основу тежине социјалних, соматск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ли психичких последица и обично се описује као благ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средња и тешка зависнос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Апстиненцијални синдром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ЧЕТВРТА ФАЗА: од 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дана – присутни сви претходни симптоми,болови у трбуху, поремећај варења.Исцрпљен,уплашен,тремор руку,зенице упадљиво проширене,грозница, зевање, сузење, ринореја,субфебрилност,умерена хипертензија,блага хипергликемија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Након 5-7 дана тегобе слабе и постепено нестају.</a:t>
            </a:r>
            <a:br>
              <a:rPr sz="2400"/>
            </a:b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АКУТНИ стадијум траје траје 7-10 д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3"/>
          <p:cNvSpPr/>
          <p:nvPr/>
        </p:nvSpPr>
        <p:spPr>
          <a:xfrm>
            <a:off x="685800" y="457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380880" y="457200"/>
            <a:ext cx="82296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br>
              <a:rPr sz="3900"/>
            </a:br>
            <a:br>
              <a:rPr sz="3900"/>
            </a:b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лоупотреба и зависност од супстанци су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оремећаји функције мозга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настали коришћењем психоактивне супста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сихоактивне супстанце утичу на перцепцију,емоционалне и мотивационе процесе у моз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ретман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дговор мозга се испољава кроз понашање и мишљење,тако да поремећај функције мозга резултира комплексним бихејвиоралним симптомим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Лечење:бихејвиоралне интервенције,едукација пацијента и породице,породична терапија,саветовање,тестирање на дроге,нема специфичне медикације али постоје “корисни “ лек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Чак и принудна лечења дају добре резулта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Модели лечењ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7200" y="160020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ffff"/>
                </a:solidFill>
                <a:latin typeface="Times New Roman"/>
              </a:rPr>
              <a:t>Naltrexon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,дугоделујући опијатски антагониста-антагонизује ефекте опијат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Ова терапија почиње након супервизиране детоксикације, зато што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naltrexo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нема могућност ублажавања апстиненцијалне криз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Овај вид лечења захтева позитиван терапијски однос, ефективну терапију саветовања, психотерапију, мониторинг комплијансе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Моде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лечењ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Times New Roman"/>
              </a:rPr>
              <a:t>Метадон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интетск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пиоидн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агонист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државањ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игурн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могућав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рестанак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узимањ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хероин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осебно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комбинуј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бихејвиорално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сихотерапијо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аветовање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осталим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ервисим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одршк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ff"/>
                </a:solidFill>
                <a:latin typeface="Times New Roman"/>
              </a:rPr>
              <a:t>Бупренорфин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арцијалн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агонист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ецептор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лаб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антагонист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l-GR" sz="2200" spc="-1" strike="noStrike">
                <a:solidFill>
                  <a:srgbClr val="ffffff"/>
                </a:solidFill>
                <a:latin typeface="Times New Roman"/>
              </a:rPr>
              <a:t>κ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ецептора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релативно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уго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еловање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добар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сигурносни</a:t>
            </a:r>
            <a:r>
              <a:rPr b="0" lang="sr-Latn-C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200" spc="-1" strike="noStrike">
                <a:solidFill>
                  <a:srgbClr val="ffffff"/>
                </a:solidFill>
                <a:latin typeface="Times New Roman"/>
              </a:rPr>
              <a:t>профил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6000" spc="-1" strike="noStrike">
                <a:solidFill>
                  <a:srgbClr val="ffffff"/>
                </a:solidFill>
                <a:latin typeface="Arial"/>
              </a:rPr>
              <a:t>ХВАЛА НА ПАЖЊИ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SM V </a:t>
            </a:r>
            <a:r>
              <a:rPr b="0" lang="sr-Latn-CS" sz="4400" spc="-1" strike="noStrike">
                <a:solidFill>
                  <a:srgbClr val="ffffff"/>
                </a:solidFill>
                <a:latin typeface="Times New Roman"/>
              </a:rPr>
              <a:t>класификациј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523880" y="19047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3.90 Alcohol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00 Opioid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1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edativ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ypno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, or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anxiolytic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dependence (including benzodiazepine dependence and barbiturate dependen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20 Cocain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30 Cannabis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40 Amphetamine dependence (or amphetamine-lik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5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allucinoge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dependence'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6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Inhalan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80 Polysubstanc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90 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hencyclidine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 (or phencyclidine-like)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4.90 Other (or unknown) substanc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05.10 Nicotine depend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DSM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V класификација супстанце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Опиоид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(опијум, морфин, хероин, меперидин, метадон, пентазоцин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мфетамини и сличне материје са симпатикомимет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ким дејством, укључујући и кока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Халуциногени (ЛСД, псилоцибин, мескалин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ЕТ, ДМТ, ДОМ или СТП, МДА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ПЦП и слични арилциклохексиламин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укључујући кетамин, ТЦ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Депресори ЦНС-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(барбитурати, БДЗ, мепробамат, глутамид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3880" y="4568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DSM-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V класификација супстанце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523880" y="1828440"/>
            <a:ext cx="7010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анабиноиди (хашиш, марихуан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арљиви растварачи и деривати петролеума (ацетон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лепак, бензен, бензин, аеросоли, итд.) и други инхалан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- азот монокси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лкалоиди беладо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(атропин, скополамин, хоматропин, семе мака, итд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лкох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ико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фе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70106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KB 10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класификациј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52352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0 Ментални поремећаји и поремећаји понашања узроковани употребом алкохола - акутно тровањ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1 Ментални поремећаји и поремећаји понашања узроковани употребом опиои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2 Ментални поремећаји и поремећаји понашања узроковани употребом канабинои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3 Ментални поремећаји и поремећаји понашања узроковани употребом хипнотика или седати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4 Ментални поремећаји и поремећаји понашања узроковани употребом кокаи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105160" y="12193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5 Ментални поремећаји и поремећаји понашања узроковани употребом других стимуланса, укључујући кафеин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6 Ментални поремећаји и поремећаји понашања узроковани употребом халуциноге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7 Ментални поремећаји и поремећаји понашања узроковани употребом духа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8 Ментални поремећаји и поремећаји понашања узроковани употребом испарљивих отапал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</a:rPr>
              <a:t>Ф19 Ментални поремећаји и поремећаји понашања узроковани употребом више врста дрога и других психоактивних твар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Зависност од ПА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1523880" y="1904760"/>
            <a:ext cx="70106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висност од психоактивних супстанци (адикција) је не-уробихејвиорални синдром, који се карактерише понављаном, компулсивном потребом за узимањем психоактивне супстанце, упркос нежељеним социјалним, психолошким и физичким консеквенцам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дикција је често удружена са физичком зависношћу, апстиненцијалним синдромом и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толеранциј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Times New Roman"/>
              </a:rPr>
              <a:t>Важни појмови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523880" y="12193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Физичка зависност се дефинише као физиолошко стањ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адаптације на супстанцу, чије одсуство доводи до поја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imes New Roman"/>
              </a:rPr>
              <a:t>апстиненцијалног синдро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Апстиненцијални синдром чини група знакова и симп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ома која настаје након наглог прекида уноса психоактив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е супстанце или у случају значајног смањења дозе на кој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је организам адаптиран. Синдром се карактерише повише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м активношћу физиолошких функција, које су биле су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миране деловањем дроге и/или депресијом функција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оје су биле стимулисане под дејством дрог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Толеранција је стање у коме дрога има смањен биолош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и или бихејвиорални одговор, односно потребне су виш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озе супстанце да би се произвео исти ефека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5T10:28:13Z</dcterms:created>
  <dc:creator>Bill Gates</dc:creator>
  <dc:description/>
  <dc:language>en-US</dc:language>
  <cp:lastModifiedBy>nmuric91@gmail.com</cp:lastModifiedBy>
  <dcterms:modified xsi:type="dcterms:W3CDTF">2020-10-01T10:55:23Z</dcterms:modified>
  <cp:revision>53</cp:revision>
  <dc:subject/>
  <dc:title>Slide 1</dc:title>
</cp:coreProperties>
</file>